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3.png" ContentType="image/png"/>
  <Override PartName="/ppt/media/image52.png" ContentType="image/png"/>
  <Override PartName="/ppt/media/image49.wmf" ContentType="image/x-wmf"/>
  <Override PartName="/ppt/media/image47.jpeg" ContentType="image/jpeg"/>
  <Override PartName="/ppt/media/image35.png" ContentType="image/png"/>
  <Override PartName="/ppt/media/image5.png" ContentType="image/png"/>
  <Override PartName="/ppt/media/image17.png" ContentType="image/png"/>
  <Override PartName="/ppt/media/image57.wmf" ContentType="image/x-wmf"/>
  <Override PartName="/ppt/media/image16.png" ContentType="image/png"/>
  <Override PartName="/ppt/media/image4.png" ContentType="image/png"/>
  <Override PartName="/ppt/media/image3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55.wmf" ContentType="image/x-wmf"/>
  <Override PartName="/ppt/media/image26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54.wmf" ContentType="image/x-wmf"/>
  <Override PartName="/ppt/media/image25.png" ContentType="image/png"/>
  <Override PartName="/ppt/media/image31.png" ContentType="image/png"/>
  <Override PartName="/ppt/media/image64.wmf" ContentType="image/x-wmf"/>
  <Override PartName="/ppt/media/image24.png" ContentType="image/png"/>
  <Override PartName="/ppt/media/image63.wmf" ContentType="image/x-wmf"/>
  <Override PartName="/ppt/media/image23.png" ContentType="image/png"/>
  <Override PartName="/ppt/media/image62.wmf" ContentType="image/x-wmf"/>
  <Override PartName="/ppt/media/image22.png" ContentType="image/png"/>
  <Override PartName="/ppt/media/image58.wmf" ContentType="image/x-wmf"/>
  <Override PartName="/ppt/media/image21.png" ContentType="image/png"/>
  <Override PartName="/ppt/media/image59.wmf" ContentType="image/x-wmf"/>
  <Override PartName="/ppt/media/image20.png" ContentType="image/png"/>
  <Override PartName="/ppt/media/image10.png" ContentType="image/png"/>
  <Override PartName="/ppt/media/image50.wmf" ContentType="image/x-wmf"/>
  <Override PartName="/ppt/media/image28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51.wmf" ContentType="image/x-wmf"/>
  <Override PartName="/ppt/media/image29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8.png" ContentType="image/png"/>
  <Override PartName="/ppt/media/image60.wmf" ContentType="image/x-wmf"/>
  <Override PartName="/ppt/media/image38.png" ContentType="image/png"/>
  <Override PartName="/ppt/media/image1.png" ContentType="image/png"/>
  <Override PartName="/ppt/media/image13.png" ContentType="image/png"/>
  <Override PartName="/ppt/media/image61.wmf" ContentType="image/x-wmf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9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CD1F8-5780-4205-A536-BEB5A70BEB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DE90C-43E8-4AB0-B7C7-7B491252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42074-E16C-432E-8E47-1B901A9E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A6C8C-83E2-4DC8-9F43-81FCA8229B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79DCF7-0839-4275-A70E-63225EEEC1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69D044-D987-489E-A63F-B3C222D7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57351-AE6D-4A57-A42D-C03372CB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FD79C1-FA85-4483-9488-426CAAB7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A7A4C7-56E2-408D-98E2-8B02241B2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5048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0B1E8A-4392-46F4-975B-2D1B9FBE8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5B785F-74B2-4437-AF66-A6C389E6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B4AD9-8560-4573-AD79-07EE7E4D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21D483-4521-4AEB-9428-8057F86F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DF3443-04B7-4C57-A416-4BF38053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CB568D-2089-4DCD-AB37-2A6307DB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D1E4BF-5AB4-45BB-BA95-EA8A3C3A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F72DF-5B92-43C1-B84C-2C3B7DCFD1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97C17-3B27-4B89-97B1-B381D28408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55E7-B481-4619-8F7A-3E5C03A8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4251-F578-4F18-A61F-9E1D2A2A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46C2-8DEB-4174-9A11-9DED54D9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D247-3F77-425D-9374-07B31DE44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54436-249B-4480-94C0-F28B6B95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15048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774E-BC22-4E1D-8046-D002C26DD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0F25-6AEA-4B29-A398-5FA19665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5ADC-233C-4771-9ABB-5FD049E5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3B46-E2B0-4E97-9559-149127E2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29AB-3A25-4A7B-82E7-4788ABC0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8B62-EB16-480D-B845-0D7E16B3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2FDE-12E1-484B-BDDC-EB4E8F3C74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2C8D5D-077B-4AAF-8419-E68F709E34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56EA00-8827-409B-B444-D6618ED3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D95A7E-7753-46D7-9B8F-B3D9D0D8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8FB47-9D7D-47DE-87C4-4DCAA857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94432A-E7F6-4FD7-BC4F-B273F4E3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4A89B0-0195-48D6-923D-3E169DB63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15048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8C6DE5-8101-488F-8FD9-73D02FC1B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02C51D-7255-4F7D-8FB8-766BFA5E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793894-9E89-4AD0-8BC9-BE220D33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FCE6E4-E201-4684-BDDE-97BBD04E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62556A-94DF-466D-85DA-93CB27B9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1D14C6-4379-40E2-9DA7-202D357A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A73F3B-5451-4811-A77B-EEF19CA656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F03763-E36E-409F-87AD-9F39208BC9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82008-96F5-4532-A85E-C6332834C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2AE26A-1D06-458F-A540-6CBEEEF5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077086-E8DA-4F1A-8593-A3C4D7F8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A33CEF-7A1B-48BC-A460-33774D9D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94B1E3-4193-4D52-9B52-8C5D940BC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15048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7A80D0-6931-4116-B42B-8E655DAC9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4428E5-DB87-4567-A880-5760EF88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0C0D33-0FC7-4CA4-A232-DBF7BE58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F2BF6D-7D12-4D07-A5D7-C7AA9F2B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6AE9E8-7280-4779-A9A8-E5CD3311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D8F86A-F590-40D0-96AF-248D1C53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15048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BBEE2-02A4-43FA-93ED-8E0C6BB2A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697CF9-545F-4F76-BA6B-D8E9786EAF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7B381-F2BA-4923-94F6-8A27364731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11687-4B15-45EF-9CE2-507EC8AF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C6693-CAE8-465C-8660-E7900076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A00E8-3B54-4979-8A1C-79E94B1A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16FBD-1237-4DBE-88F2-A201D7F64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457200" y="15048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682C5-AFEE-441B-93B5-718E818C1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04877-D2A7-4E2A-86BB-C594CEB2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A484D-B0B1-4D6A-A4AA-8D3556B3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D3AD4-195E-4F35-98E6-C68C1662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A2A9B-77D9-4622-95E6-2C1879A5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9B7F3-4667-454A-9FCE-183BE9FC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505ED-FEC3-4B91-851C-281FF49F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4269F-7DD3-4F29-BF55-6E730665A5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A39F53-1B9F-4997-96D0-F8646168F8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0FA9DE-1D88-4847-94C4-CDC47ACB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F1F01B-6519-4324-AA83-19E68692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3BB4FB-1A60-4940-949F-E15D4609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B96599-6B7E-404D-87A3-819E65308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457200" y="15048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6846D6-CE96-4992-A7BF-C145CCAE2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FFFDEC-23B4-4017-8FCC-5DA35CA5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BEBE6-F2D9-43D5-8C7B-381267D6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D6E927-90A5-4927-8B28-335BFF64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868F14-5940-43C0-B1B3-3616588B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6E2AD3-61BE-4E2C-AA1B-E4A206A4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437DB5-88EA-4A7A-A6FA-317F36B2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E6CC0E-77AA-4EE5-94E3-9F26A56822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28D2C1-F139-4D1A-9A24-8240D9E11B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97A1A7-A145-4ED5-9600-74E2EC15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638327-6096-46D7-85C8-55613E61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86A815-0581-4F2F-8FCC-5157E384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2FF567-B3D2-4C7E-9DAB-B383C2FB0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19E37-6766-4EDB-AD17-1E00102A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457200" y="15048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AEF6FA-DA6E-4823-ADEF-30F04065A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7DEAC4-C4F4-417B-B198-4440076E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FE60CF-5988-420A-A8C5-61A47AE6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FA76DE-3A26-438D-A5E1-C0FAF1B3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A5CB4D-7BAE-44A4-BEA6-96DD31C5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547A51-7992-4C8F-A19A-32AE3BAD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F6B6DD-22B7-47A9-9B2F-3CDC70D7B5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slideLayout" Target="../slideLayouts/slideLayout1.xml"/><Relationship Id="rId28" Type="http://schemas.openxmlformats.org/officeDocument/2006/relationships/slideLayout" Target="../slideLayouts/slideLayout2.xml"/><Relationship Id="rId29" Type="http://schemas.openxmlformats.org/officeDocument/2006/relationships/slideLayout" Target="../slideLayouts/slideLayout3.xml"/><Relationship Id="rId30" Type="http://schemas.openxmlformats.org/officeDocument/2006/relationships/slideLayout" Target="../slideLayouts/slideLayout4.xml"/><Relationship Id="rId31" Type="http://schemas.openxmlformats.org/officeDocument/2006/relationships/slideLayout" Target="../slideLayouts/slideLayout5.xml"/><Relationship Id="rId32" Type="http://schemas.openxmlformats.org/officeDocument/2006/relationships/slideLayout" Target="../slideLayouts/slideLayout6.xml"/><Relationship Id="rId33" Type="http://schemas.openxmlformats.org/officeDocument/2006/relationships/slideLayout" Target="../slideLayouts/slideLayout7.xml"/><Relationship Id="rId34" Type="http://schemas.openxmlformats.org/officeDocument/2006/relationships/slideLayout" Target="../slideLayouts/slideLayout8.xml"/><Relationship Id="rId35" Type="http://schemas.openxmlformats.org/officeDocument/2006/relationships/slideLayout" Target="../slideLayouts/slideLayout9.xml"/><Relationship Id="rId36" Type="http://schemas.openxmlformats.org/officeDocument/2006/relationships/slideLayout" Target="../slideLayouts/slideLayout10.xml"/><Relationship Id="rId37" Type="http://schemas.openxmlformats.org/officeDocument/2006/relationships/slideLayout" Target="../slideLayouts/slideLayout11.xml"/><Relationship Id="rId3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4.png"/><Relationship Id="rId28" Type="http://schemas.openxmlformats.org/officeDocument/2006/relationships/image" Target="../media/image25.png"/><Relationship Id="rId29" Type="http://schemas.openxmlformats.org/officeDocument/2006/relationships/image" Target="../media/image26.png"/><Relationship Id="rId30" Type="http://schemas.openxmlformats.org/officeDocument/2006/relationships/slideLayout" Target="../slideLayouts/slideLayout13.xml"/><Relationship Id="rId31" Type="http://schemas.openxmlformats.org/officeDocument/2006/relationships/slideLayout" Target="../slideLayouts/slideLayout14.xml"/><Relationship Id="rId32" Type="http://schemas.openxmlformats.org/officeDocument/2006/relationships/slideLayout" Target="../slideLayouts/slideLayout15.xml"/><Relationship Id="rId33" Type="http://schemas.openxmlformats.org/officeDocument/2006/relationships/slideLayout" Target="../slideLayouts/slideLayout16.xml"/><Relationship Id="rId34" Type="http://schemas.openxmlformats.org/officeDocument/2006/relationships/slideLayout" Target="../slideLayouts/slideLayout17.xml"/><Relationship Id="rId35" Type="http://schemas.openxmlformats.org/officeDocument/2006/relationships/slideLayout" Target="../slideLayouts/slideLayout18.xml"/><Relationship Id="rId36" Type="http://schemas.openxmlformats.org/officeDocument/2006/relationships/slideLayout" Target="../slideLayouts/slideLayout19.xml"/><Relationship Id="rId37" Type="http://schemas.openxmlformats.org/officeDocument/2006/relationships/slideLayout" Target="../slideLayouts/slideLayout20.xml"/><Relationship Id="rId38" Type="http://schemas.openxmlformats.org/officeDocument/2006/relationships/slideLayout" Target="../slideLayouts/slideLayout21.xml"/><Relationship Id="rId39" Type="http://schemas.openxmlformats.org/officeDocument/2006/relationships/slideLayout" Target="../slideLayouts/slideLayout22.xml"/><Relationship Id="rId40" Type="http://schemas.openxmlformats.org/officeDocument/2006/relationships/slideLayout" Target="../slideLayouts/slideLayout23.xml"/><Relationship Id="rId4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7.png"/><Relationship Id="rId28" Type="http://schemas.openxmlformats.org/officeDocument/2006/relationships/slideLayout" Target="../slideLayouts/slideLayout25.xml"/><Relationship Id="rId29" Type="http://schemas.openxmlformats.org/officeDocument/2006/relationships/slideLayout" Target="../slideLayouts/slideLayout26.xml"/><Relationship Id="rId30" Type="http://schemas.openxmlformats.org/officeDocument/2006/relationships/slideLayout" Target="../slideLayouts/slideLayout27.xml"/><Relationship Id="rId31" Type="http://schemas.openxmlformats.org/officeDocument/2006/relationships/slideLayout" Target="../slideLayouts/slideLayout28.xml"/><Relationship Id="rId32" Type="http://schemas.openxmlformats.org/officeDocument/2006/relationships/slideLayout" Target="../slideLayouts/slideLayout29.xml"/><Relationship Id="rId33" Type="http://schemas.openxmlformats.org/officeDocument/2006/relationships/slideLayout" Target="../slideLayouts/slideLayout30.xml"/><Relationship Id="rId34" Type="http://schemas.openxmlformats.org/officeDocument/2006/relationships/slideLayout" Target="../slideLayouts/slideLayout31.xml"/><Relationship Id="rId35" Type="http://schemas.openxmlformats.org/officeDocument/2006/relationships/slideLayout" Target="../slideLayouts/slideLayout32.xml"/><Relationship Id="rId36" Type="http://schemas.openxmlformats.org/officeDocument/2006/relationships/slideLayout" Target="../slideLayouts/slideLayout33.xml"/><Relationship Id="rId37" Type="http://schemas.openxmlformats.org/officeDocument/2006/relationships/slideLayout" Target="../slideLayouts/slideLayout34.xml"/><Relationship Id="rId38" Type="http://schemas.openxmlformats.org/officeDocument/2006/relationships/slideLayout" Target="../slideLayouts/slideLayout35.xml"/><Relationship Id="rId3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4.png"/><Relationship Id="rId28" Type="http://schemas.openxmlformats.org/officeDocument/2006/relationships/image" Target="../media/image28.png"/><Relationship Id="rId29" Type="http://schemas.openxmlformats.org/officeDocument/2006/relationships/slideLayout" Target="../slideLayouts/slideLayout37.xml"/><Relationship Id="rId30" Type="http://schemas.openxmlformats.org/officeDocument/2006/relationships/slideLayout" Target="../slideLayouts/slideLayout38.xml"/><Relationship Id="rId31" Type="http://schemas.openxmlformats.org/officeDocument/2006/relationships/slideLayout" Target="../slideLayouts/slideLayout39.xml"/><Relationship Id="rId32" Type="http://schemas.openxmlformats.org/officeDocument/2006/relationships/slideLayout" Target="../slideLayouts/slideLayout40.xml"/><Relationship Id="rId33" Type="http://schemas.openxmlformats.org/officeDocument/2006/relationships/slideLayout" Target="../slideLayouts/slideLayout41.xml"/><Relationship Id="rId34" Type="http://schemas.openxmlformats.org/officeDocument/2006/relationships/slideLayout" Target="../slideLayouts/slideLayout42.xml"/><Relationship Id="rId35" Type="http://schemas.openxmlformats.org/officeDocument/2006/relationships/slideLayout" Target="../slideLayouts/slideLayout43.xml"/><Relationship Id="rId36" Type="http://schemas.openxmlformats.org/officeDocument/2006/relationships/slideLayout" Target="../slideLayouts/slideLayout44.xml"/><Relationship Id="rId37" Type="http://schemas.openxmlformats.org/officeDocument/2006/relationships/slideLayout" Target="../slideLayouts/slideLayout45.xml"/><Relationship Id="rId38" Type="http://schemas.openxmlformats.org/officeDocument/2006/relationships/slideLayout" Target="../slideLayouts/slideLayout46.xml"/><Relationship Id="rId39" Type="http://schemas.openxmlformats.org/officeDocument/2006/relationships/slideLayout" Target="../slideLayouts/slideLayout47.xml"/><Relationship Id="rId4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7.png"/><Relationship Id="rId28" Type="http://schemas.openxmlformats.org/officeDocument/2006/relationships/slideLayout" Target="../slideLayouts/slideLayout49.xml"/><Relationship Id="rId29" Type="http://schemas.openxmlformats.org/officeDocument/2006/relationships/slideLayout" Target="../slideLayouts/slideLayout50.xml"/><Relationship Id="rId30" Type="http://schemas.openxmlformats.org/officeDocument/2006/relationships/slideLayout" Target="../slideLayouts/slideLayout51.xml"/><Relationship Id="rId31" Type="http://schemas.openxmlformats.org/officeDocument/2006/relationships/slideLayout" Target="../slideLayouts/slideLayout52.xml"/><Relationship Id="rId32" Type="http://schemas.openxmlformats.org/officeDocument/2006/relationships/slideLayout" Target="../slideLayouts/slideLayout53.xml"/><Relationship Id="rId33" Type="http://schemas.openxmlformats.org/officeDocument/2006/relationships/slideLayout" Target="../slideLayouts/slideLayout54.xml"/><Relationship Id="rId34" Type="http://schemas.openxmlformats.org/officeDocument/2006/relationships/slideLayout" Target="../slideLayouts/slideLayout55.xml"/><Relationship Id="rId35" Type="http://schemas.openxmlformats.org/officeDocument/2006/relationships/slideLayout" Target="../slideLayouts/slideLayout56.xml"/><Relationship Id="rId36" Type="http://schemas.openxmlformats.org/officeDocument/2006/relationships/slideLayout" Target="../slideLayouts/slideLayout57.xml"/><Relationship Id="rId37" Type="http://schemas.openxmlformats.org/officeDocument/2006/relationships/slideLayout" Target="../slideLayouts/slideLayout58.xml"/><Relationship Id="rId38" Type="http://schemas.openxmlformats.org/officeDocument/2006/relationships/slideLayout" Target="../slideLayouts/slideLayout59.xml"/><Relationship Id="rId3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7.png"/><Relationship Id="rId28" Type="http://schemas.openxmlformats.org/officeDocument/2006/relationships/slideLayout" Target="../slideLayouts/slideLayout61.xml"/><Relationship Id="rId29" Type="http://schemas.openxmlformats.org/officeDocument/2006/relationships/slideLayout" Target="../slideLayouts/slideLayout62.xml"/><Relationship Id="rId30" Type="http://schemas.openxmlformats.org/officeDocument/2006/relationships/slideLayout" Target="../slideLayouts/slideLayout63.xml"/><Relationship Id="rId31" Type="http://schemas.openxmlformats.org/officeDocument/2006/relationships/slideLayout" Target="../slideLayouts/slideLayout64.xml"/><Relationship Id="rId32" Type="http://schemas.openxmlformats.org/officeDocument/2006/relationships/slideLayout" Target="../slideLayouts/slideLayout65.xml"/><Relationship Id="rId33" Type="http://schemas.openxmlformats.org/officeDocument/2006/relationships/slideLayout" Target="../slideLayouts/slideLayout66.xml"/><Relationship Id="rId34" Type="http://schemas.openxmlformats.org/officeDocument/2006/relationships/slideLayout" Target="../slideLayouts/slideLayout67.xml"/><Relationship Id="rId35" Type="http://schemas.openxmlformats.org/officeDocument/2006/relationships/slideLayout" Target="../slideLayouts/slideLayout68.xml"/><Relationship Id="rId36" Type="http://schemas.openxmlformats.org/officeDocument/2006/relationships/slideLayout" Target="../slideLayouts/slideLayout69.xml"/><Relationship Id="rId37" Type="http://schemas.openxmlformats.org/officeDocument/2006/relationships/slideLayout" Target="../slideLayouts/slideLayout70.xml"/><Relationship Id="rId38" Type="http://schemas.openxmlformats.org/officeDocument/2006/relationships/slideLayout" Target="../slideLayouts/slideLayout71.xml"/><Relationship Id="rId39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9.png"/><Relationship Id="rId3" Type="http://schemas.openxmlformats.org/officeDocument/2006/relationships/image" Target="../media/image10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image" Target="../media/image39.png"/><Relationship Id="rId14" Type="http://schemas.openxmlformats.org/officeDocument/2006/relationships/image" Target="../media/image40.png"/><Relationship Id="rId15" Type="http://schemas.openxmlformats.org/officeDocument/2006/relationships/image" Target="../media/image41.png"/><Relationship Id="rId16" Type="http://schemas.openxmlformats.org/officeDocument/2006/relationships/slideLayout" Target="../slideLayouts/slideLayout73.xml"/><Relationship Id="rId17" Type="http://schemas.openxmlformats.org/officeDocument/2006/relationships/slideLayout" Target="../slideLayouts/slideLayout74.xml"/><Relationship Id="rId18" Type="http://schemas.openxmlformats.org/officeDocument/2006/relationships/slideLayout" Target="../slideLayouts/slideLayout75.xml"/><Relationship Id="rId19" Type="http://schemas.openxmlformats.org/officeDocument/2006/relationships/slideLayout" Target="../slideLayouts/slideLayout76.xml"/><Relationship Id="rId20" Type="http://schemas.openxmlformats.org/officeDocument/2006/relationships/slideLayout" Target="../slideLayouts/slideLayout77.xml"/><Relationship Id="rId21" Type="http://schemas.openxmlformats.org/officeDocument/2006/relationships/slideLayout" Target="../slideLayouts/slideLayout78.xml"/><Relationship Id="rId22" Type="http://schemas.openxmlformats.org/officeDocument/2006/relationships/slideLayout" Target="../slideLayouts/slideLayout79.xml"/><Relationship Id="rId23" Type="http://schemas.openxmlformats.org/officeDocument/2006/relationships/slideLayout" Target="../slideLayouts/slideLayout80.xml"/><Relationship Id="rId24" Type="http://schemas.openxmlformats.org/officeDocument/2006/relationships/slideLayout" Target="../slideLayouts/slideLayout81.xml"/><Relationship Id="rId25" Type="http://schemas.openxmlformats.org/officeDocument/2006/relationships/slideLayout" Target="../slideLayouts/slideLayout82.xml"/><Relationship Id="rId26" Type="http://schemas.openxmlformats.org/officeDocument/2006/relationships/slideLayout" Target="../slideLayouts/slideLayout83.xml"/><Relationship Id="rId2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9.png"/><Relationship Id="rId3" Type="http://schemas.openxmlformats.org/officeDocument/2006/relationships/image" Target="../media/image10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image" Target="../media/image41.png"/><Relationship Id="rId15" Type="http://schemas.openxmlformats.org/officeDocument/2006/relationships/image" Target="../media/image36.png"/><Relationship Id="rId16" Type="http://schemas.openxmlformats.org/officeDocument/2006/relationships/slideLayout" Target="../slideLayouts/slideLayout85.xml"/><Relationship Id="rId17" Type="http://schemas.openxmlformats.org/officeDocument/2006/relationships/slideLayout" Target="../slideLayouts/slideLayout86.xml"/><Relationship Id="rId18" Type="http://schemas.openxmlformats.org/officeDocument/2006/relationships/slideLayout" Target="../slideLayouts/slideLayout87.xml"/><Relationship Id="rId19" Type="http://schemas.openxmlformats.org/officeDocument/2006/relationships/slideLayout" Target="../slideLayouts/slideLayout88.xml"/><Relationship Id="rId20" Type="http://schemas.openxmlformats.org/officeDocument/2006/relationships/slideLayout" Target="../slideLayouts/slideLayout89.xml"/><Relationship Id="rId21" Type="http://schemas.openxmlformats.org/officeDocument/2006/relationships/slideLayout" Target="../slideLayouts/slideLayout90.xml"/><Relationship Id="rId22" Type="http://schemas.openxmlformats.org/officeDocument/2006/relationships/slideLayout" Target="../slideLayouts/slideLayout91.xml"/><Relationship Id="rId23" Type="http://schemas.openxmlformats.org/officeDocument/2006/relationships/slideLayout" Target="../slideLayouts/slideLayout92.xml"/><Relationship Id="rId24" Type="http://schemas.openxmlformats.org/officeDocument/2006/relationships/slideLayout" Target="../slideLayouts/slideLayout93.xml"/><Relationship Id="rId25" Type="http://schemas.openxmlformats.org/officeDocument/2006/relationships/slideLayout" Target="../slideLayouts/slideLayout94.xml"/><Relationship Id="rId26" Type="http://schemas.openxmlformats.org/officeDocument/2006/relationships/slideLayout" Target="../slideLayouts/slideLayout95.xml"/><Relationship Id="rId27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95320" y="2273400"/>
            <a:ext cx="2773440" cy="2157480"/>
            <a:chOff x="895320" y="2273400"/>
            <a:chExt cx="2773440" cy="21574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895320" y="2273400"/>
              <a:ext cx="2773440" cy="21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914400" y="2292480"/>
              <a:ext cx="2741760" cy="21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2955960" y="5052960"/>
            <a:ext cx="1790640" cy="1766880"/>
            <a:chOff x="2955960" y="5052960"/>
            <a:chExt cx="1790640" cy="1766880"/>
          </a:xfrm>
        </p:grpSpPr>
        <p:pic>
          <p:nvPicPr>
            <p:cNvPr id="4" name="" descr=""/>
            <p:cNvPicPr/>
            <p:nvPr/>
          </p:nvPicPr>
          <p:blipFill>
            <a:blip r:embed="rId4"/>
            <a:stretch/>
          </p:blipFill>
          <p:spPr>
            <a:xfrm>
              <a:off x="2955960" y="5052960"/>
              <a:ext cx="179064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3235320" y="5326200"/>
              <a:ext cx="1241280" cy="12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5241960" y="-19080"/>
            <a:ext cx="3913200" cy="3078360"/>
            <a:chOff x="5241960" y="-19080"/>
            <a:chExt cx="3913200" cy="3078360"/>
          </a:xfrm>
        </p:grpSpPr>
        <p:pic>
          <p:nvPicPr>
            <p:cNvPr id="7" name="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3200" cy="30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257800" y="0"/>
              <a:ext cx="3884760" cy="30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-19080" y="4095720"/>
            <a:ext cx="2389320" cy="2492280"/>
            <a:chOff x="-19080" y="4095720"/>
            <a:chExt cx="2389320" cy="2492280"/>
          </a:xfrm>
        </p:grpSpPr>
        <p:pic>
          <p:nvPicPr>
            <p:cNvPr id="10" name="" descr=""/>
            <p:cNvPicPr/>
            <p:nvPr/>
          </p:nvPicPr>
          <p:blipFill>
            <a:blip r:embed="rId6"/>
            <a:stretch/>
          </p:blipFill>
          <p:spPr>
            <a:xfrm>
              <a:off x="-19080" y="4095720"/>
              <a:ext cx="23893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0" y="4114800"/>
              <a:ext cx="2360520" cy="24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4157640" y="2371680"/>
            <a:ext cx="2205000" cy="2205000"/>
            <a:chOff x="4157640" y="2371680"/>
            <a:chExt cx="2205000" cy="2205000"/>
          </a:xfrm>
        </p:grpSpPr>
        <p:pic>
          <p:nvPicPr>
            <p:cNvPr id="13" name="" descr=""/>
            <p:cNvPicPr/>
            <p:nvPr/>
          </p:nvPicPr>
          <p:blipFill>
            <a:blip r:embed="rId7"/>
            <a:stretch/>
          </p:blipFill>
          <p:spPr>
            <a:xfrm>
              <a:off x="4157640" y="2371680"/>
              <a:ext cx="2205000" cy="22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4497480" y="2708280"/>
              <a:ext cx="1535040" cy="15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" name=""/>
          <p:cNvGrpSpPr/>
          <p:nvPr/>
        </p:nvGrpSpPr>
        <p:grpSpPr>
          <a:xfrm>
            <a:off x="6364440" y="5821200"/>
            <a:ext cx="1041120" cy="1041480"/>
            <a:chOff x="6364440" y="5821200"/>
            <a:chExt cx="1041120" cy="1041480"/>
          </a:xfrm>
        </p:grpSpPr>
        <p:pic>
          <p:nvPicPr>
            <p:cNvPr id="16" name="" descr=""/>
            <p:cNvPicPr/>
            <p:nvPr/>
          </p:nvPicPr>
          <p:blipFill>
            <a:blip r:embed="rId8"/>
            <a:stretch/>
          </p:blipFill>
          <p:spPr>
            <a:xfrm>
              <a:off x="6364440" y="5821200"/>
              <a:ext cx="104112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" name=""/>
            <p:cNvSpPr/>
            <p:nvPr/>
          </p:nvSpPr>
          <p:spPr>
            <a:xfrm>
              <a:off x="6532560" y="5991120"/>
              <a:ext cx="714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" name=""/>
          <p:cNvGrpSpPr/>
          <p:nvPr/>
        </p:nvGrpSpPr>
        <p:grpSpPr>
          <a:xfrm>
            <a:off x="6303960" y="1407960"/>
            <a:ext cx="2076480" cy="2076480"/>
            <a:chOff x="6303960" y="1407960"/>
            <a:chExt cx="2076480" cy="2076480"/>
          </a:xfrm>
        </p:grpSpPr>
        <p:pic>
          <p:nvPicPr>
            <p:cNvPr id="19" name="" descr=""/>
            <p:cNvPicPr/>
            <p:nvPr/>
          </p:nvPicPr>
          <p:blipFill>
            <a:blip r:embed="rId9"/>
            <a:stretch/>
          </p:blipFill>
          <p:spPr>
            <a:xfrm>
              <a:off x="6303960" y="1407960"/>
              <a:ext cx="2076480" cy="20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/>
            <p:nvPr/>
          </p:nvSpPr>
          <p:spPr>
            <a:xfrm>
              <a:off x="6622920" y="1727280"/>
              <a:ext cx="1444680" cy="14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" name=""/>
          <p:cNvGrpSpPr/>
          <p:nvPr/>
        </p:nvGrpSpPr>
        <p:grpSpPr>
          <a:xfrm>
            <a:off x="96840" y="4784760"/>
            <a:ext cx="1986120" cy="1985760"/>
            <a:chOff x="96840" y="4784760"/>
            <a:chExt cx="1986120" cy="1985760"/>
          </a:xfrm>
        </p:grpSpPr>
        <p:pic>
          <p:nvPicPr>
            <p:cNvPr id="22" name="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86120" cy="19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" name=""/>
            <p:cNvSpPr/>
            <p:nvPr/>
          </p:nvSpPr>
          <p:spPr>
            <a:xfrm>
              <a:off x="401760" y="5089680"/>
              <a:ext cx="1384200" cy="13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" name=""/>
          <p:cNvGrpSpPr/>
          <p:nvPr/>
        </p:nvGrpSpPr>
        <p:grpSpPr>
          <a:xfrm>
            <a:off x="2004840" y="4559400"/>
            <a:ext cx="1054440" cy="1058760"/>
            <a:chOff x="2004840" y="4559400"/>
            <a:chExt cx="1054440" cy="1058760"/>
          </a:xfrm>
        </p:grpSpPr>
        <p:pic>
          <p:nvPicPr>
            <p:cNvPr id="25" name="" descr=""/>
            <p:cNvPicPr/>
            <p:nvPr/>
          </p:nvPicPr>
          <p:blipFill>
            <a:blip r:embed="rId11"/>
            <a:stretch/>
          </p:blipFill>
          <p:spPr>
            <a:xfrm>
              <a:off x="2004840" y="4559400"/>
              <a:ext cx="10544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" name=""/>
            <p:cNvSpPr/>
            <p:nvPr/>
          </p:nvSpPr>
          <p:spPr>
            <a:xfrm>
              <a:off x="2171880" y="4729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" name=""/>
          <p:cNvGrpSpPr/>
          <p:nvPr/>
        </p:nvGrpSpPr>
        <p:grpSpPr>
          <a:xfrm>
            <a:off x="4151160" y="4608360"/>
            <a:ext cx="1546200" cy="1425600"/>
            <a:chOff x="4151160" y="4608360"/>
            <a:chExt cx="1546200" cy="1425600"/>
          </a:xfrm>
        </p:grpSpPr>
        <p:pic>
          <p:nvPicPr>
            <p:cNvPr id="28" name="" descr=""/>
            <p:cNvPicPr/>
            <p:nvPr/>
          </p:nvPicPr>
          <p:blipFill>
            <a:blip r:embed="rId12"/>
            <a:stretch/>
          </p:blipFill>
          <p:spPr>
            <a:xfrm>
              <a:off x="4151160" y="4608360"/>
              <a:ext cx="154620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" name=""/>
            <p:cNvSpPr/>
            <p:nvPr/>
          </p:nvSpPr>
          <p:spPr>
            <a:xfrm>
              <a:off x="4394160" y="4830840"/>
              <a:ext cx="106992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" name=""/>
          <p:cNvGrpSpPr/>
          <p:nvPr/>
        </p:nvGrpSpPr>
        <p:grpSpPr>
          <a:xfrm>
            <a:off x="-19080" y="341280"/>
            <a:ext cx="2541600" cy="2419560"/>
            <a:chOff x="-19080" y="341280"/>
            <a:chExt cx="2541600" cy="2419560"/>
          </a:xfrm>
        </p:grpSpPr>
        <p:pic>
          <p:nvPicPr>
            <p:cNvPr id="31" name="" descr=""/>
            <p:cNvPicPr/>
            <p:nvPr/>
          </p:nvPicPr>
          <p:blipFill>
            <a:blip r:embed="rId13"/>
            <a:stretch/>
          </p:blipFill>
          <p:spPr>
            <a:xfrm>
              <a:off x="-19080" y="341280"/>
              <a:ext cx="2541600" cy="241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" name=""/>
            <p:cNvSpPr/>
            <p:nvPr/>
          </p:nvSpPr>
          <p:spPr>
            <a:xfrm>
              <a:off x="1440" y="361800"/>
              <a:ext cx="2511720" cy="238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" name=""/>
          <p:cNvGrpSpPr/>
          <p:nvPr/>
        </p:nvGrpSpPr>
        <p:grpSpPr>
          <a:xfrm>
            <a:off x="1279440" y="-19080"/>
            <a:ext cx="1548000" cy="639720"/>
            <a:chOff x="1279440" y="-19080"/>
            <a:chExt cx="1548000" cy="639720"/>
          </a:xfrm>
        </p:grpSpPr>
        <p:pic>
          <p:nvPicPr>
            <p:cNvPr id="34" name="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480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" name=""/>
            <p:cNvSpPr/>
            <p:nvPr/>
          </p:nvSpPr>
          <p:spPr>
            <a:xfrm>
              <a:off x="1295280" y="0"/>
              <a:ext cx="15224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" name=""/>
          <p:cNvGrpSpPr/>
          <p:nvPr/>
        </p:nvGrpSpPr>
        <p:grpSpPr>
          <a:xfrm>
            <a:off x="42840" y="195120"/>
            <a:ext cx="2046240" cy="2052720"/>
            <a:chOff x="42840" y="195120"/>
            <a:chExt cx="2046240" cy="2052720"/>
          </a:xfrm>
        </p:grpSpPr>
        <p:pic>
          <p:nvPicPr>
            <p:cNvPr id="37" name="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46240" cy="20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" name=""/>
            <p:cNvSpPr/>
            <p:nvPr/>
          </p:nvSpPr>
          <p:spPr>
            <a:xfrm>
              <a:off x="355680" y="507960"/>
              <a:ext cx="142884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" name=""/>
          <p:cNvGrpSpPr/>
          <p:nvPr/>
        </p:nvGrpSpPr>
        <p:grpSpPr>
          <a:xfrm>
            <a:off x="60480" y="3943440"/>
            <a:ext cx="919080" cy="919080"/>
            <a:chOff x="60480" y="3943440"/>
            <a:chExt cx="919080" cy="919080"/>
          </a:xfrm>
        </p:grpSpPr>
        <p:pic>
          <p:nvPicPr>
            <p:cNvPr id="40" name="" descr=""/>
            <p:cNvPicPr/>
            <p:nvPr/>
          </p:nvPicPr>
          <p:blipFill>
            <a:blip r:embed="rId16"/>
            <a:stretch/>
          </p:blipFill>
          <p:spPr>
            <a:xfrm>
              <a:off x="60480" y="3943440"/>
              <a:ext cx="919080" cy="9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" name=""/>
            <p:cNvSpPr/>
            <p:nvPr/>
          </p:nvSpPr>
          <p:spPr>
            <a:xfrm>
              <a:off x="206280" y="4092480"/>
              <a:ext cx="62892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" name=""/>
          <p:cNvGrpSpPr/>
          <p:nvPr/>
        </p:nvGrpSpPr>
        <p:grpSpPr>
          <a:xfrm>
            <a:off x="2103480" y="1487520"/>
            <a:ext cx="1430280" cy="1430280"/>
            <a:chOff x="2103480" y="1487520"/>
            <a:chExt cx="1430280" cy="1430280"/>
          </a:xfrm>
        </p:grpSpPr>
        <p:pic>
          <p:nvPicPr>
            <p:cNvPr id="43" name="" descr=""/>
            <p:cNvPicPr/>
            <p:nvPr/>
          </p:nvPicPr>
          <p:blipFill>
            <a:blip r:embed="rId17"/>
            <a:stretch/>
          </p:blipFill>
          <p:spPr>
            <a:xfrm>
              <a:off x="2103480" y="1487520"/>
              <a:ext cx="1430280" cy="14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2327400" y="1712880"/>
              <a:ext cx="988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3352680" y="450720"/>
            <a:ext cx="1619280" cy="1621080"/>
            <a:chOff x="3352680" y="450720"/>
            <a:chExt cx="1619280" cy="1621080"/>
          </a:xfrm>
        </p:grpSpPr>
        <p:pic>
          <p:nvPicPr>
            <p:cNvPr id="46" name="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1928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3603600" y="700200"/>
              <a:ext cx="1125720" cy="11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5168880" y="2951280"/>
            <a:ext cx="3267000" cy="3259080"/>
            <a:chOff x="5168880" y="2951280"/>
            <a:chExt cx="3267000" cy="3259080"/>
          </a:xfrm>
        </p:grpSpPr>
        <p:pic>
          <p:nvPicPr>
            <p:cNvPr id="49" name="" descr=""/>
            <p:cNvPicPr/>
            <p:nvPr/>
          </p:nvPicPr>
          <p:blipFill>
            <a:blip r:embed="rId19"/>
            <a:stretch/>
          </p:blipFill>
          <p:spPr>
            <a:xfrm>
              <a:off x="5168880" y="2951280"/>
              <a:ext cx="3267000" cy="32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664240" y="3441600"/>
              <a:ext cx="22842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546880" y="-12600"/>
            <a:ext cx="1054080" cy="1058760"/>
            <a:chOff x="5546880" y="-12600"/>
            <a:chExt cx="1054080" cy="1058760"/>
          </a:xfrm>
        </p:grpSpPr>
        <p:pic>
          <p:nvPicPr>
            <p:cNvPr id="52" name="" descr=""/>
            <p:cNvPicPr/>
            <p:nvPr/>
          </p:nvPicPr>
          <p:blipFill>
            <a:blip r:embed="rId20"/>
            <a:stretch/>
          </p:blipFill>
          <p:spPr>
            <a:xfrm>
              <a:off x="554688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5713560" y="157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931080" y="4645080"/>
            <a:ext cx="2224080" cy="2224080"/>
            <a:chOff x="6931080" y="4645080"/>
            <a:chExt cx="2224080" cy="2224080"/>
          </a:xfrm>
        </p:grpSpPr>
        <p:pic>
          <p:nvPicPr>
            <p:cNvPr id="55" name="" descr=""/>
            <p:cNvPicPr/>
            <p:nvPr/>
          </p:nvPicPr>
          <p:blipFill>
            <a:blip r:embed="rId21"/>
            <a:stretch/>
          </p:blipFill>
          <p:spPr>
            <a:xfrm>
              <a:off x="6931080" y="4645080"/>
              <a:ext cx="2224080" cy="22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7272360" y="4986360"/>
              <a:ext cx="1549440" cy="15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579680" y="3687840"/>
            <a:ext cx="1228680" cy="1224000"/>
            <a:chOff x="1579680" y="3687840"/>
            <a:chExt cx="1228680" cy="1224000"/>
          </a:xfrm>
        </p:grpSpPr>
        <p:pic>
          <p:nvPicPr>
            <p:cNvPr id="58" name="" descr=""/>
            <p:cNvPicPr/>
            <p:nvPr/>
          </p:nvPicPr>
          <p:blipFill>
            <a:blip r:embed="rId22"/>
            <a:stretch/>
          </p:blipFill>
          <p:spPr>
            <a:xfrm>
              <a:off x="1579680" y="3687840"/>
              <a:ext cx="122868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774800" y="3881520"/>
              <a:ext cx="844560" cy="8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308640" y="212760"/>
            <a:ext cx="846360" cy="852480"/>
            <a:chOff x="6308640" y="212760"/>
            <a:chExt cx="846360" cy="852480"/>
          </a:xfrm>
        </p:grpSpPr>
        <p:pic>
          <p:nvPicPr>
            <p:cNvPr id="61" name="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4636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445080" y="349200"/>
              <a:ext cx="57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8058240" y="-12600"/>
            <a:ext cx="1054080" cy="1058760"/>
            <a:chOff x="8058240" y="-12600"/>
            <a:chExt cx="1054080" cy="1058760"/>
          </a:xfrm>
        </p:grpSpPr>
        <p:pic>
          <p:nvPicPr>
            <p:cNvPr id="64" name="" descr=""/>
            <p:cNvPicPr/>
            <p:nvPr/>
          </p:nvPicPr>
          <p:blipFill>
            <a:blip r:embed="rId24"/>
            <a:stretch/>
          </p:blipFill>
          <p:spPr>
            <a:xfrm>
              <a:off x="805824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8228160" y="157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5394240" y="6308640"/>
            <a:ext cx="1548000" cy="560520"/>
            <a:chOff x="5394240" y="6308640"/>
            <a:chExt cx="1548000" cy="560520"/>
          </a:xfrm>
        </p:grpSpPr>
        <p:pic>
          <p:nvPicPr>
            <p:cNvPr id="67" name="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4800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5410080" y="6324480"/>
              <a:ext cx="1522440" cy="5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2992320" y="-12600"/>
            <a:ext cx="1054080" cy="1058760"/>
            <a:chOff x="2992320" y="-12600"/>
            <a:chExt cx="1054080" cy="1058760"/>
          </a:xfrm>
        </p:grpSpPr>
        <p:pic>
          <p:nvPicPr>
            <p:cNvPr id="70" name="" descr=""/>
            <p:cNvPicPr/>
            <p:nvPr/>
          </p:nvPicPr>
          <p:blipFill>
            <a:blip r:embed="rId26"/>
            <a:stretch/>
          </p:blipFill>
          <p:spPr>
            <a:xfrm>
              <a:off x="299232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162240" y="157320"/>
              <a:ext cx="72396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dt" idx="1"/>
          </p:nvPr>
        </p:nvSpPr>
        <p:spPr>
          <a:xfrm>
            <a:off x="5790960" y="6357960"/>
            <a:ext cx="29732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33720" y="6357960"/>
            <a:ext cx="3581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sldNum" idx="2"/>
          </p:nvPr>
        </p:nvSpPr>
        <p:spPr>
          <a:xfrm>
            <a:off x="155160" y="6314760"/>
            <a:ext cx="1187640" cy="45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BBE466-E2DC-4E0E-A529-3B4234CFAA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7"/>
    <p:sldLayoutId id="2147483650" r:id="rId28"/>
    <p:sldLayoutId id="2147483651" r:id="rId29"/>
    <p:sldLayoutId id="2147483652" r:id="rId30"/>
    <p:sldLayoutId id="2147483653" r:id="rId31"/>
    <p:sldLayoutId id="2147483654" r:id="rId32"/>
    <p:sldLayoutId id="2147483655" r:id="rId33"/>
    <p:sldLayoutId id="2147483656" r:id="rId34"/>
    <p:sldLayoutId id="2147483657" r:id="rId35"/>
    <p:sldLayoutId id="2147483658" r:id="rId36"/>
    <p:sldLayoutId id="2147483659" r:id="rId37"/>
    <p:sldLayoutId id="2147483660" r:id="rId3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895320" y="2273400"/>
            <a:ext cx="2773440" cy="2157480"/>
            <a:chOff x="895320" y="2273400"/>
            <a:chExt cx="2773440" cy="2157480"/>
          </a:xfrm>
        </p:grpSpPr>
        <p:pic>
          <p:nvPicPr>
            <p:cNvPr id="114" name="" descr=""/>
            <p:cNvPicPr/>
            <p:nvPr/>
          </p:nvPicPr>
          <p:blipFill>
            <a:blip r:embed="rId3"/>
            <a:stretch/>
          </p:blipFill>
          <p:spPr>
            <a:xfrm>
              <a:off x="895320" y="2273400"/>
              <a:ext cx="2773440" cy="21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914400" y="2292480"/>
              <a:ext cx="2741760" cy="21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955960" y="5052960"/>
            <a:ext cx="1790640" cy="1766880"/>
            <a:chOff x="2955960" y="5052960"/>
            <a:chExt cx="1790640" cy="1766880"/>
          </a:xfrm>
        </p:grpSpPr>
        <p:pic>
          <p:nvPicPr>
            <p:cNvPr id="117" name="" descr=""/>
            <p:cNvPicPr/>
            <p:nvPr/>
          </p:nvPicPr>
          <p:blipFill>
            <a:blip r:embed="rId4"/>
            <a:stretch/>
          </p:blipFill>
          <p:spPr>
            <a:xfrm>
              <a:off x="2955960" y="5052960"/>
              <a:ext cx="179064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3235320" y="5326200"/>
              <a:ext cx="1241280" cy="12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5241960" y="-19080"/>
            <a:ext cx="3913200" cy="3078360"/>
            <a:chOff x="5241960" y="-19080"/>
            <a:chExt cx="3913200" cy="3078360"/>
          </a:xfrm>
        </p:grpSpPr>
        <p:pic>
          <p:nvPicPr>
            <p:cNvPr id="120" name="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3200" cy="30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257800" y="0"/>
              <a:ext cx="3884760" cy="30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-19080" y="4095720"/>
            <a:ext cx="2389320" cy="2492280"/>
            <a:chOff x="-19080" y="4095720"/>
            <a:chExt cx="2389320" cy="2492280"/>
          </a:xfrm>
        </p:grpSpPr>
        <p:pic>
          <p:nvPicPr>
            <p:cNvPr id="123" name="" descr=""/>
            <p:cNvPicPr/>
            <p:nvPr/>
          </p:nvPicPr>
          <p:blipFill>
            <a:blip r:embed="rId6"/>
            <a:stretch/>
          </p:blipFill>
          <p:spPr>
            <a:xfrm>
              <a:off x="-19080" y="4095720"/>
              <a:ext cx="23893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4114800"/>
              <a:ext cx="2360520" cy="24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157640" y="2371680"/>
            <a:ext cx="2205000" cy="2205000"/>
            <a:chOff x="4157640" y="2371680"/>
            <a:chExt cx="2205000" cy="2205000"/>
          </a:xfrm>
        </p:grpSpPr>
        <p:pic>
          <p:nvPicPr>
            <p:cNvPr id="126" name="" descr=""/>
            <p:cNvPicPr/>
            <p:nvPr/>
          </p:nvPicPr>
          <p:blipFill>
            <a:blip r:embed="rId7"/>
            <a:stretch/>
          </p:blipFill>
          <p:spPr>
            <a:xfrm>
              <a:off x="4157640" y="2371680"/>
              <a:ext cx="2205000" cy="22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497480" y="2708280"/>
              <a:ext cx="1535040" cy="15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364440" y="5821200"/>
            <a:ext cx="1041120" cy="1041480"/>
            <a:chOff x="6364440" y="5821200"/>
            <a:chExt cx="1041120" cy="1041480"/>
          </a:xfrm>
        </p:grpSpPr>
        <p:pic>
          <p:nvPicPr>
            <p:cNvPr id="129" name="" descr=""/>
            <p:cNvPicPr/>
            <p:nvPr/>
          </p:nvPicPr>
          <p:blipFill>
            <a:blip r:embed="rId8"/>
            <a:stretch/>
          </p:blipFill>
          <p:spPr>
            <a:xfrm>
              <a:off x="6364440" y="5821200"/>
              <a:ext cx="104112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6532560" y="5991120"/>
              <a:ext cx="714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303960" y="1407960"/>
            <a:ext cx="2076480" cy="2076480"/>
            <a:chOff x="6303960" y="1407960"/>
            <a:chExt cx="2076480" cy="2076480"/>
          </a:xfrm>
        </p:grpSpPr>
        <p:pic>
          <p:nvPicPr>
            <p:cNvPr id="132" name="" descr=""/>
            <p:cNvPicPr/>
            <p:nvPr/>
          </p:nvPicPr>
          <p:blipFill>
            <a:blip r:embed="rId9"/>
            <a:stretch/>
          </p:blipFill>
          <p:spPr>
            <a:xfrm>
              <a:off x="6303960" y="1407960"/>
              <a:ext cx="2076480" cy="20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6622920" y="1727280"/>
              <a:ext cx="1444680" cy="14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96840" y="4784760"/>
            <a:ext cx="1986120" cy="1985760"/>
            <a:chOff x="96840" y="4784760"/>
            <a:chExt cx="1986120" cy="1985760"/>
          </a:xfrm>
        </p:grpSpPr>
        <p:pic>
          <p:nvPicPr>
            <p:cNvPr id="135" name="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86120" cy="19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401760" y="5089680"/>
              <a:ext cx="1384200" cy="13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004840" y="4559400"/>
            <a:ext cx="1054440" cy="1058760"/>
            <a:chOff x="2004840" y="4559400"/>
            <a:chExt cx="1054440" cy="1058760"/>
          </a:xfrm>
        </p:grpSpPr>
        <p:pic>
          <p:nvPicPr>
            <p:cNvPr id="138" name="" descr=""/>
            <p:cNvPicPr/>
            <p:nvPr/>
          </p:nvPicPr>
          <p:blipFill>
            <a:blip r:embed="rId11"/>
            <a:stretch/>
          </p:blipFill>
          <p:spPr>
            <a:xfrm>
              <a:off x="2004840" y="4559400"/>
              <a:ext cx="10544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2171880" y="4729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151160" y="4608360"/>
            <a:ext cx="1546200" cy="1425600"/>
            <a:chOff x="4151160" y="4608360"/>
            <a:chExt cx="1546200" cy="1425600"/>
          </a:xfrm>
        </p:grpSpPr>
        <p:pic>
          <p:nvPicPr>
            <p:cNvPr id="141" name="" descr=""/>
            <p:cNvPicPr/>
            <p:nvPr/>
          </p:nvPicPr>
          <p:blipFill>
            <a:blip r:embed="rId12"/>
            <a:stretch/>
          </p:blipFill>
          <p:spPr>
            <a:xfrm>
              <a:off x="4151160" y="4608360"/>
              <a:ext cx="154620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4394160" y="4830840"/>
              <a:ext cx="106992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-19080" y="341280"/>
            <a:ext cx="2541600" cy="2419560"/>
            <a:chOff x="-19080" y="341280"/>
            <a:chExt cx="2541600" cy="2419560"/>
          </a:xfrm>
        </p:grpSpPr>
        <p:pic>
          <p:nvPicPr>
            <p:cNvPr id="144" name="" descr=""/>
            <p:cNvPicPr/>
            <p:nvPr/>
          </p:nvPicPr>
          <p:blipFill>
            <a:blip r:embed="rId13"/>
            <a:stretch/>
          </p:blipFill>
          <p:spPr>
            <a:xfrm>
              <a:off x="-19080" y="341280"/>
              <a:ext cx="2541600" cy="241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440" y="361800"/>
              <a:ext cx="2511720" cy="238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279440" y="-19080"/>
            <a:ext cx="1548000" cy="639720"/>
            <a:chOff x="1279440" y="-19080"/>
            <a:chExt cx="1548000" cy="639720"/>
          </a:xfrm>
        </p:grpSpPr>
        <p:pic>
          <p:nvPicPr>
            <p:cNvPr id="147" name="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480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1295280" y="0"/>
              <a:ext cx="15224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42840" y="195120"/>
            <a:ext cx="2046240" cy="2052720"/>
            <a:chOff x="42840" y="195120"/>
            <a:chExt cx="2046240" cy="2052720"/>
          </a:xfrm>
        </p:grpSpPr>
        <p:pic>
          <p:nvPicPr>
            <p:cNvPr id="150" name="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46240" cy="20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355680" y="507960"/>
              <a:ext cx="142884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0480" y="3943440"/>
            <a:ext cx="919080" cy="919080"/>
            <a:chOff x="60480" y="3943440"/>
            <a:chExt cx="919080" cy="919080"/>
          </a:xfrm>
        </p:grpSpPr>
        <p:pic>
          <p:nvPicPr>
            <p:cNvPr id="153" name="" descr=""/>
            <p:cNvPicPr/>
            <p:nvPr/>
          </p:nvPicPr>
          <p:blipFill>
            <a:blip r:embed="rId16"/>
            <a:stretch/>
          </p:blipFill>
          <p:spPr>
            <a:xfrm>
              <a:off x="60480" y="3943440"/>
              <a:ext cx="919080" cy="9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206280" y="4092480"/>
              <a:ext cx="62892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103480" y="1487520"/>
            <a:ext cx="1430280" cy="1430280"/>
            <a:chOff x="2103480" y="1487520"/>
            <a:chExt cx="1430280" cy="1430280"/>
          </a:xfrm>
        </p:grpSpPr>
        <p:pic>
          <p:nvPicPr>
            <p:cNvPr id="156" name="" descr=""/>
            <p:cNvPicPr/>
            <p:nvPr/>
          </p:nvPicPr>
          <p:blipFill>
            <a:blip r:embed="rId17"/>
            <a:stretch/>
          </p:blipFill>
          <p:spPr>
            <a:xfrm>
              <a:off x="2103480" y="1487520"/>
              <a:ext cx="1430280" cy="14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2327400" y="1712880"/>
              <a:ext cx="988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3352680" y="450720"/>
            <a:ext cx="1619280" cy="1621080"/>
            <a:chOff x="3352680" y="450720"/>
            <a:chExt cx="1619280" cy="1621080"/>
          </a:xfrm>
        </p:grpSpPr>
        <p:pic>
          <p:nvPicPr>
            <p:cNvPr id="159" name="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1928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3603600" y="700200"/>
              <a:ext cx="1125720" cy="11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168880" y="2951280"/>
            <a:ext cx="3267000" cy="3259080"/>
            <a:chOff x="5168880" y="2951280"/>
            <a:chExt cx="3267000" cy="3259080"/>
          </a:xfrm>
        </p:grpSpPr>
        <p:pic>
          <p:nvPicPr>
            <p:cNvPr id="162" name="" descr=""/>
            <p:cNvPicPr/>
            <p:nvPr/>
          </p:nvPicPr>
          <p:blipFill>
            <a:blip r:embed="rId19"/>
            <a:stretch/>
          </p:blipFill>
          <p:spPr>
            <a:xfrm>
              <a:off x="5168880" y="2951280"/>
              <a:ext cx="3267000" cy="32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5664240" y="3441600"/>
              <a:ext cx="22842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546880" y="-12600"/>
            <a:ext cx="1054080" cy="1058760"/>
            <a:chOff x="5546880" y="-12600"/>
            <a:chExt cx="1054080" cy="1058760"/>
          </a:xfrm>
        </p:grpSpPr>
        <p:pic>
          <p:nvPicPr>
            <p:cNvPr id="165" name="" descr=""/>
            <p:cNvPicPr/>
            <p:nvPr/>
          </p:nvPicPr>
          <p:blipFill>
            <a:blip r:embed="rId20"/>
            <a:stretch/>
          </p:blipFill>
          <p:spPr>
            <a:xfrm>
              <a:off x="554688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5713560" y="157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931080" y="4645080"/>
            <a:ext cx="2224080" cy="2224080"/>
            <a:chOff x="6931080" y="4645080"/>
            <a:chExt cx="2224080" cy="2224080"/>
          </a:xfrm>
        </p:grpSpPr>
        <p:pic>
          <p:nvPicPr>
            <p:cNvPr id="168" name="" descr=""/>
            <p:cNvPicPr/>
            <p:nvPr/>
          </p:nvPicPr>
          <p:blipFill>
            <a:blip r:embed="rId21"/>
            <a:stretch/>
          </p:blipFill>
          <p:spPr>
            <a:xfrm>
              <a:off x="6931080" y="4645080"/>
              <a:ext cx="2224080" cy="22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7272360" y="4986360"/>
              <a:ext cx="1549440" cy="15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579680" y="3687840"/>
            <a:ext cx="1228680" cy="1224000"/>
            <a:chOff x="1579680" y="3687840"/>
            <a:chExt cx="1228680" cy="1224000"/>
          </a:xfrm>
        </p:grpSpPr>
        <p:pic>
          <p:nvPicPr>
            <p:cNvPr id="171" name="" descr=""/>
            <p:cNvPicPr/>
            <p:nvPr/>
          </p:nvPicPr>
          <p:blipFill>
            <a:blip r:embed="rId22"/>
            <a:stretch/>
          </p:blipFill>
          <p:spPr>
            <a:xfrm>
              <a:off x="1579680" y="3687840"/>
              <a:ext cx="122868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774800" y="3881520"/>
              <a:ext cx="844560" cy="8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308640" y="212760"/>
            <a:ext cx="846360" cy="852480"/>
            <a:chOff x="6308640" y="212760"/>
            <a:chExt cx="846360" cy="852480"/>
          </a:xfrm>
        </p:grpSpPr>
        <p:pic>
          <p:nvPicPr>
            <p:cNvPr id="174" name="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4636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6445080" y="349200"/>
              <a:ext cx="57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8058240" y="-12600"/>
            <a:ext cx="1054080" cy="1058760"/>
            <a:chOff x="8058240" y="-12600"/>
            <a:chExt cx="1054080" cy="1058760"/>
          </a:xfrm>
        </p:grpSpPr>
        <p:pic>
          <p:nvPicPr>
            <p:cNvPr id="177" name="" descr=""/>
            <p:cNvPicPr/>
            <p:nvPr/>
          </p:nvPicPr>
          <p:blipFill>
            <a:blip r:embed="rId24"/>
            <a:stretch/>
          </p:blipFill>
          <p:spPr>
            <a:xfrm>
              <a:off x="805824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228160" y="157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5394240" y="6308640"/>
            <a:ext cx="1548000" cy="560520"/>
            <a:chOff x="5394240" y="6308640"/>
            <a:chExt cx="1548000" cy="560520"/>
          </a:xfrm>
        </p:grpSpPr>
        <p:pic>
          <p:nvPicPr>
            <p:cNvPr id="180" name="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4800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5410080" y="6324480"/>
              <a:ext cx="1522440" cy="5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992320" y="-12600"/>
            <a:ext cx="1054080" cy="1058760"/>
            <a:chOff x="2992320" y="-12600"/>
            <a:chExt cx="1054080" cy="1058760"/>
          </a:xfrm>
        </p:grpSpPr>
        <p:pic>
          <p:nvPicPr>
            <p:cNvPr id="183" name="" descr=""/>
            <p:cNvPicPr/>
            <p:nvPr/>
          </p:nvPicPr>
          <p:blipFill>
            <a:blip r:embed="rId26"/>
            <a:stretch/>
          </p:blipFill>
          <p:spPr>
            <a:xfrm>
              <a:off x="299232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3162240" y="157320"/>
              <a:ext cx="72396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5" name="" descr=""/>
          <p:cNvPicPr/>
          <p:nvPr/>
        </p:nvPicPr>
        <p:blipFill>
          <a:blip r:embed="rId27"/>
          <a:stretch/>
        </p:blipFill>
        <p:spPr>
          <a:xfrm>
            <a:off x="-6480" y="2432160"/>
            <a:ext cx="9156960" cy="4698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8"/>
          <a:stretch/>
        </p:blipFill>
        <p:spPr>
          <a:xfrm>
            <a:off x="-6480" y="907920"/>
            <a:ext cx="9156960" cy="15368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9"/>
          <a:stretch/>
        </p:blipFill>
        <p:spPr>
          <a:xfrm>
            <a:off x="0" y="460440"/>
            <a:ext cx="9144000" cy="586584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3"/>
          </p:nvPr>
        </p:nvSpPr>
        <p:spPr>
          <a:xfrm>
            <a:off x="5790960" y="6357960"/>
            <a:ext cx="29732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9e5"/>
                </a:solidFill>
                <a:latin typeface="Constanti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sldNum" idx="4"/>
          </p:nvPr>
        </p:nvSpPr>
        <p:spPr>
          <a:xfrm>
            <a:off x="155160" y="6314760"/>
            <a:ext cx="11876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800" spc="-1" strike="noStrike">
                <a:solidFill>
                  <a:srgbClr val="fff9e5"/>
                </a:solidFill>
                <a:latin typeface="Constanti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0FEC320E-6827-4BED-8EAB-4E37BFF14E07}" type="slidenum">
              <a:rPr b="0" lang="en-US" sz="2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6357960"/>
            <a:ext cx="3581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0"/>
    <p:sldLayoutId id="2147483663" r:id="rId31"/>
    <p:sldLayoutId id="2147483664" r:id="rId32"/>
    <p:sldLayoutId id="2147483665" r:id="rId33"/>
    <p:sldLayoutId id="2147483666" r:id="rId34"/>
    <p:sldLayoutId id="2147483667" r:id="rId35"/>
    <p:sldLayoutId id="2147483668" r:id="rId36"/>
    <p:sldLayoutId id="2147483669" r:id="rId37"/>
    <p:sldLayoutId id="2147483670" r:id="rId38"/>
    <p:sldLayoutId id="2147483671" r:id="rId39"/>
    <p:sldLayoutId id="2147483672" r:id="rId40"/>
    <p:sldLayoutId id="2147483673" r:id="rId4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895320" y="2273400"/>
            <a:ext cx="2773440" cy="2157480"/>
            <a:chOff x="895320" y="2273400"/>
            <a:chExt cx="2773440" cy="2157480"/>
          </a:xfrm>
        </p:grpSpPr>
        <p:pic>
          <p:nvPicPr>
            <p:cNvPr id="230" name="" descr=""/>
            <p:cNvPicPr/>
            <p:nvPr/>
          </p:nvPicPr>
          <p:blipFill>
            <a:blip r:embed="rId3"/>
            <a:stretch/>
          </p:blipFill>
          <p:spPr>
            <a:xfrm>
              <a:off x="895320" y="2273400"/>
              <a:ext cx="2773440" cy="21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914400" y="2292480"/>
              <a:ext cx="2741760" cy="21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955960" y="5052960"/>
            <a:ext cx="1790640" cy="1766880"/>
            <a:chOff x="2955960" y="5052960"/>
            <a:chExt cx="1790640" cy="1766880"/>
          </a:xfrm>
        </p:grpSpPr>
        <p:pic>
          <p:nvPicPr>
            <p:cNvPr id="233" name="" descr=""/>
            <p:cNvPicPr/>
            <p:nvPr/>
          </p:nvPicPr>
          <p:blipFill>
            <a:blip r:embed="rId4"/>
            <a:stretch/>
          </p:blipFill>
          <p:spPr>
            <a:xfrm>
              <a:off x="2955960" y="5052960"/>
              <a:ext cx="179064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3235320" y="5326200"/>
              <a:ext cx="1241280" cy="12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5241960" y="-19080"/>
            <a:ext cx="3913200" cy="3078360"/>
            <a:chOff x="5241960" y="-19080"/>
            <a:chExt cx="3913200" cy="3078360"/>
          </a:xfrm>
        </p:grpSpPr>
        <p:pic>
          <p:nvPicPr>
            <p:cNvPr id="236" name="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3200" cy="30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5257800" y="0"/>
              <a:ext cx="3884760" cy="30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-19080" y="4095720"/>
            <a:ext cx="2389320" cy="2492280"/>
            <a:chOff x="-19080" y="4095720"/>
            <a:chExt cx="2389320" cy="2492280"/>
          </a:xfrm>
        </p:grpSpPr>
        <p:pic>
          <p:nvPicPr>
            <p:cNvPr id="239" name="" descr=""/>
            <p:cNvPicPr/>
            <p:nvPr/>
          </p:nvPicPr>
          <p:blipFill>
            <a:blip r:embed="rId6"/>
            <a:stretch/>
          </p:blipFill>
          <p:spPr>
            <a:xfrm>
              <a:off x="-19080" y="4095720"/>
              <a:ext cx="23893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0" y="4114800"/>
              <a:ext cx="2360520" cy="24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157640" y="2371680"/>
            <a:ext cx="2205000" cy="2205000"/>
            <a:chOff x="4157640" y="2371680"/>
            <a:chExt cx="2205000" cy="2205000"/>
          </a:xfrm>
        </p:grpSpPr>
        <p:pic>
          <p:nvPicPr>
            <p:cNvPr id="242" name="" descr=""/>
            <p:cNvPicPr/>
            <p:nvPr/>
          </p:nvPicPr>
          <p:blipFill>
            <a:blip r:embed="rId7"/>
            <a:stretch/>
          </p:blipFill>
          <p:spPr>
            <a:xfrm>
              <a:off x="4157640" y="2371680"/>
              <a:ext cx="2205000" cy="22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4497480" y="2708280"/>
              <a:ext cx="1535040" cy="15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6364440" y="5821200"/>
            <a:ext cx="1041120" cy="1041480"/>
            <a:chOff x="6364440" y="5821200"/>
            <a:chExt cx="1041120" cy="1041480"/>
          </a:xfrm>
        </p:grpSpPr>
        <p:pic>
          <p:nvPicPr>
            <p:cNvPr id="245" name="" descr=""/>
            <p:cNvPicPr/>
            <p:nvPr/>
          </p:nvPicPr>
          <p:blipFill>
            <a:blip r:embed="rId8"/>
            <a:stretch/>
          </p:blipFill>
          <p:spPr>
            <a:xfrm>
              <a:off x="6364440" y="5821200"/>
              <a:ext cx="104112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6532560" y="5991120"/>
              <a:ext cx="714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6303960" y="1407960"/>
            <a:ext cx="2076480" cy="2076480"/>
            <a:chOff x="6303960" y="1407960"/>
            <a:chExt cx="2076480" cy="2076480"/>
          </a:xfrm>
        </p:grpSpPr>
        <p:pic>
          <p:nvPicPr>
            <p:cNvPr id="248" name="" descr=""/>
            <p:cNvPicPr/>
            <p:nvPr/>
          </p:nvPicPr>
          <p:blipFill>
            <a:blip r:embed="rId9"/>
            <a:stretch/>
          </p:blipFill>
          <p:spPr>
            <a:xfrm>
              <a:off x="6303960" y="1407960"/>
              <a:ext cx="2076480" cy="20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6622920" y="1727280"/>
              <a:ext cx="1444680" cy="14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96840" y="4784760"/>
            <a:ext cx="1986120" cy="1985760"/>
            <a:chOff x="96840" y="4784760"/>
            <a:chExt cx="1986120" cy="1985760"/>
          </a:xfrm>
        </p:grpSpPr>
        <p:pic>
          <p:nvPicPr>
            <p:cNvPr id="251" name="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86120" cy="19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401760" y="5089680"/>
              <a:ext cx="1384200" cy="13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2004840" y="4559400"/>
            <a:ext cx="1054440" cy="1058760"/>
            <a:chOff x="2004840" y="4559400"/>
            <a:chExt cx="1054440" cy="1058760"/>
          </a:xfrm>
        </p:grpSpPr>
        <p:pic>
          <p:nvPicPr>
            <p:cNvPr id="254" name="" descr=""/>
            <p:cNvPicPr/>
            <p:nvPr/>
          </p:nvPicPr>
          <p:blipFill>
            <a:blip r:embed="rId11"/>
            <a:stretch/>
          </p:blipFill>
          <p:spPr>
            <a:xfrm>
              <a:off x="2004840" y="4559400"/>
              <a:ext cx="10544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2171880" y="4729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4151160" y="4608360"/>
            <a:ext cx="1546200" cy="1425600"/>
            <a:chOff x="4151160" y="4608360"/>
            <a:chExt cx="1546200" cy="1425600"/>
          </a:xfrm>
        </p:grpSpPr>
        <p:pic>
          <p:nvPicPr>
            <p:cNvPr id="257" name="" descr=""/>
            <p:cNvPicPr/>
            <p:nvPr/>
          </p:nvPicPr>
          <p:blipFill>
            <a:blip r:embed="rId12"/>
            <a:stretch/>
          </p:blipFill>
          <p:spPr>
            <a:xfrm>
              <a:off x="4151160" y="4608360"/>
              <a:ext cx="154620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4394160" y="4830840"/>
              <a:ext cx="106992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-19080" y="341280"/>
            <a:ext cx="2541600" cy="2419560"/>
            <a:chOff x="-19080" y="341280"/>
            <a:chExt cx="2541600" cy="2419560"/>
          </a:xfrm>
        </p:grpSpPr>
        <p:pic>
          <p:nvPicPr>
            <p:cNvPr id="260" name="" descr=""/>
            <p:cNvPicPr/>
            <p:nvPr/>
          </p:nvPicPr>
          <p:blipFill>
            <a:blip r:embed="rId13"/>
            <a:stretch/>
          </p:blipFill>
          <p:spPr>
            <a:xfrm>
              <a:off x="-19080" y="341280"/>
              <a:ext cx="2541600" cy="241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1440" y="361800"/>
              <a:ext cx="2511720" cy="238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1279440" y="-19080"/>
            <a:ext cx="1548000" cy="639720"/>
            <a:chOff x="1279440" y="-19080"/>
            <a:chExt cx="1548000" cy="639720"/>
          </a:xfrm>
        </p:grpSpPr>
        <p:pic>
          <p:nvPicPr>
            <p:cNvPr id="263" name="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480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1295280" y="0"/>
              <a:ext cx="15224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42840" y="195120"/>
            <a:ext cx="2046240" cy="2052720"/>
            <a:chOff x="42840" y="195120"/>
            <a:chExt cx="2046240" cy="2052720"/>
          </a:xfrm>
        </p:grpSpPr>
        <p:pic>
          <p:nvPicPr>
            <p:cNvPr id="266" name="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46240" cy="20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355680" y="507960"/>
              <a:ext cx="142884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0480" y="3943440"/>
            <a:ext cx="919080" cy="919080"/>
            <a:chOff x="60480" y="3943440"/>
            <a:chExt cx="919080" cy="919080"/>
          </a:xfrm>
        </p:grpSpPr>
        <p:pic>
          <p:nvPicPr>
            <p:cNvPr id="269" name="" descr=""/>
            <p:cNvPicPr/>
            <p:nvPr/>
          </p:nvPicPr>
          <p:blipFill>
            <a:blip r:embed="rId16"/>
            <a:stretch/>
          </p:blipFill>
          <p:spPr>
            <a:xfrm>
              <a:off x="60480" y="3943440"/>
              <a:ext cx="919080" cy="9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206280" y="4092480"/>
              <a:ext cx="62892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2103480" y="1487520"/>
            <a:ext cx="1430280" cy="1430280"/>
            <a:chOff x="2103480" y="1487520"/>
            <a:chExt cx="1430280" cy="1430280"/>
          </a:xfrm>
        </p:grpSpPr>
        <p:pic>
          <p:nvPicPr>
            <p:cNvPr id="272" name="" descr=""/>
            <p:cNvPicPr/>
            <p:nvPr/>
          </p:nvPicPr>
          <p:blipFill>
            <a:blip r:embed="rId17"/>
            <a:stretch/>
          </p:blipFill>
          <p:spPr>
            <a:xfrm>
              <a:off x="2103480" y="1487520"/>
              <a:ext cx="1430280" cy="14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2327400" y="1712880"/>
              <a:ext cx="988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352680" y="450720"/>
            <a:ext cx="1619280" cy="1621080"/>
            <a:chOff x="3352680" y="450720"/>
            <a:chExt cx="1619280" cy="1621080"/>
          </a:xfrm>
        </p:grpSpPr>
        <p:pic>
          <p:nvPicPr>
            <p:cNvPr id="275" name="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1928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3603600" y="700200"/>
              <a:ext cx="1125720" cy="11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5168880" y="2951280"/>
            <a:ext cx="3267000" cy="3259080"/>
            <a:chOff x="5168880" y="2951280"/>
            <a:chExt cx="3267000" cy="3259080"/>
          </a:xfrm>
        </p:grpSpPr>
        <p:pic>
          <p:nvPicPr>
            <p:cNvPr id="278" name="" descr=""/>
            <p:cNvPicPr/>
            <p:nvPr/>
          </p:nvPicPr>
          <p:blipFill>
            <a:blip r:embed="rId19"/>
            <a:stretch/>
          </p:blipFill>
          <p:spPr>
            <a:xfrm>
              <a:off x="5168880" y="2951280"/>
              <a:ext cx="3267000" cy="32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5664240" y="3441600"/>
              <a:ext cx="22842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5546880" y="-12600"/>
            <a:ext cx="1054080" cy="1058760"/>
            <a:chOff x="5546880" y="-12600"/>
            <a:chExt cx="1054080" cy="1058760"/>
          </a:xfrm>
        </p:grpSpPr>
        <p:pic>
          <p:nvPicPr>
            <p:cNvPr id="281" name="" descr=""/>
            <p:cNvPicPr/>
            <p:nvPr/>
          </p:nvPicPr>
          <p:blipFill>
            <a:blip r:embed="rId20"/>
            <a:stretch/>
          </p:blipFill>
          <p:spPr>
            <a:xfrm>
              <a:off x="554688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5713560" y="157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6931080" y="4645080"/>
            <a:ext cx="2224080" cy="2224080"/>
            <a:chOff x="6931080" y="4645080"/>
            <a:chExt cx="2224080" cy="2224080"/>
          </a:xfrm>
        </p:grpSpPr>
        <p:pic>
          <p:nvPicPr>
            <p:cNvPr id="284" name="" descr=""/>
            <p:cNvPicPr/>
            <p:nvPr/>
          </p:nvPicPr>
          <p:blipFill>
            <a:blip r:embed="rId21"/>
            <a:stretch/>
          </p:blipFill>
          <p:spPr>
            <a:xfrm>
              <a:off x="6931080" y="4645080"/>
              <a:ext cx="2224080" cy="22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7272360" y="4986360"/>
              <a:ext cx="1549440" cy="15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1579680" y="3687840"/>
            <a:ext cx="1228680" cy="1224000"/>
            <a:chOff x="1579680" y="3687840"/>
            <a:chExt cx="1228680" cy="1224000"/>
          </a:xfrm>
        </p:grpSpPr>
        <p:pic>
          <p:nvPicPr>
            <p:cNvPr id="287" name="" descr=""/>
            <p:cNvPicPr/>
            <p:nvPr/>
          </p:nvPicPr>
          <p:blipFill>
            <a:blip r:embed="rId22"/>
            <a:stretch/>
          </p:blipFill>
          <p:spPr>
            <a:xfrm>
              <a:off x="1579680" y="3687840"/>
              <a:ext cx="122868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1774800" y="3881520"/>
              <a:ext cx="844560" cy="8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6308640" y="212760"/>
            <a:ext cx="846360" cy="852480"/>
            <a:chOff x="6308640" y="212760"/>
            <a:chExt cx="846360" cy="852480"/>
          </a:xfrm>
        </p:grpSpPr>
        <p:pic>
          <p:nvPicPr>
            <p:cNvPr id="290" name="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4636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6445080" y="349200"/>
              <a:ext cx="57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8058240" y="-12600"/>
            <a:ext cx="1054080" cy="1058760"/>
            <a:chOff x="8058240" y="-12600"/>
            <a:chExt cx="1054080" cy="1058760"/>
          </a:xfrm>
        </p:grpSpPr>
        <p:pic>
          <p:nvPicPr>
            <p:cNvPr id="293" name="" descr=""/>
            <p:cNvPicPr/>
            <p:nvPr/>
          </p:nvPicPr>
          <p:blipFill>
            <a:blip r:embed="rId24"/>
            <a:stretch/>
          </p:blipFill>
          <p:spPr>
            <a:xfrm>
              <a:off x="805824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8228160" y="157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394240" y="6308640"/>
            <a:ext cx="1548000" cy="560520"/>
            <a:chOff x="5394240" y="6308640"/>
            <a:chExt cx="1548000" cy="560520"/>
          </a:xfrm>
        </p:grpSpPr>
        <p:pic>
          <p:nvPicPr>
            <p:cNvPr id="296" name="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4800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5410080" y="6324480"/>
              <a:ext cx="1522440" cy="5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992320" y="-12600"/>
            <a:ext cx="1054080" cy="1058760"/>
            <a:chOff x="2992320" y="-12600"/>
            <a:chExt cx="1054080" cy="1058760"/>
          </a:xfrm>
        </p:grpSpPr>
        <p:pic>
          <p:nvPicPr>
            <p:cNvPr id="299" name="" descr=""/>
            <p:cNvPicPr/>
            <p:nvPr/>
          </p:nvPicPr>
          <p:blipFill>
            <a:blip r:embed="rId26"/>
            <a:stretch/>
          </p:blipFill>
          <p:spPr>
            <a:xfrm>
              <a:off x="299232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3162240" y="157320"/>
              <a:ext cx="72396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01" name="" descr=""/>
          <p:cNvPicPr/>
          <p:nvPr/>
        </p:nvPicPr>
        <p:blipFill>
          <a:blip r:embed="rId27"/>
          <a:stretch/>
        </p:blipFill>
        <p:spPr>
          <a:xfrm>
            <a:off x="-6480" y="1298520"/>
            <a:ext cx="9156960" cy="54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5"/>
          </p:nvPr>
        </p:nvSpPr>
        <p:spPr>
          <a:xfrm>
            <a:off x="5790960" y="6357960"/>
            <a:ext cx="29732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9e5"/>
                </a:solidFill>
                <a:latin typeface="Constanti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sldNum" idx="6"/>
          </p:nvPr>
        </p:nvSpPr>
        <p:spPr>
          <a:xfrm>
            <a:off x="155160" y="6314760"/>
            <a:ext cx="11876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800" spc="-1" strike="noStrike">
                <a:solidFill>
                  <a:srgbClr val="fff9e5"/>
                </a:solidFill>
                <a:latin typeface="Constanti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2F07DD84-B327-46E4-AAA6-99E2700304C0}" type="slidenum">
              <a:rPr b="0" lang="en-US" sz="2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133720" y="6357960"/>
            <a:ext cx="3581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8"/>
    <p:sldLayoutId id="2147483676" r:id="rId29"/>
    <p:sldLayoutId id="2147483677" r:id="rId30"/>
    <p:sldLayoutId id="2147483678" r:id="rId31"/>
    <p:sldLayoutId id="2147483679" r:id="rId32"/>
    <p:sldLayoutId id="2147483680" r:id="rId33"/>
    <p:sldLayoutId id="2147483681" r:id="rId34"/>
    <p:sldLayoutId id="2147483682" r:id="rId35"/>
    <p:sldLayoutId id="2147483683" r:id="rId36"/>
    <p:sldLayoutId id="2147483684" r:id="rId37"/>
    <p:sldLayoutId id="2147483685" r:id="rId38"/>
    <p:sldLayoutId id="2147483686" r:id="rId3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895320" y="2273400"/>
            <a:ext cx="2773440" cy="2157480"/>
            <a:chOff x="895320" y="2273400"/>
            <a:chExt cx="2773440" cy="2157480"/>
          </a:xfrm>
        </p:grpSpPr>
        <p:pic>
          <p:nvPicPr>
            <p:cNvPr id="344" name="" descr=""/>
            <p:cNvPicPr/>
            <p:nvPr/>
          </p:nvPicPr>
          <p:blipFill>
            <a:blip r:embed="rId3"/>
            <a:stretch/>
          </p:blipFill>
          <p:spPr>
            <a:xfrm>
              <a:off x="895320" y="2273400"/>
              <a:ext cx="2773440" cy="21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914400" y="2292480"/>
              <a:ext cx="2741760" cy="21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2955960" y="5052960"/>
            <a:ext cx="1790640" cy="1766880"/>
            <a:chOff x="2955960" y="5052960"/>
            <a:chExt cx="1790640" cy="1766880"/>
          </a:xfrm>
        </p:grpSpPr>
        <p:pic>
          <p:nvPicPr>
            <p:cNvPr id="347" name="" descr=""/>
            <p:cNvPicPr/>
            <p:nvPr/>
          </p:nvPicPr>
          <p:blipFill>
            <a:blip r:embed="rId4"/>
            <a:stretch/>
          </p:blipFill>
          <p:spPr>
            <a:xfrm>
              <a:off x="2955960" y="5052960"/>
              <a:ext cx="179064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3235320" y="5326200"/>
              <a:ext cx="1241280" cy="12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5241960" y="-19080"/>
            <a:ext cx="3913200" cy="3078360"/>
            <a:chOff x="5241960" y="-19080"/>
            <a:chExt cx="3913200" cy="3078360"/>
          </a:xfrm>
        </p:grpSpPr>
        <p:pic>
          <p:nvPicPr>
            <p:cNvPr id="350" name="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3200" cy="30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5257800" y="0"/>
              <a:ext cx="3884760" cy="30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-19080" y="4095720"/>
            <a:ext cx="2389320" cy="2492280"/>
            <a:chOff x="-19080" y="4095720"/>
            <a:chExt cx="2389320" cy="2492280"/>
          </a:xfrm>
        </p:grpSpPr>
        <p:pic>
          <p:nvPicPr>
            <p:cNvPr id="353" name="" descr=""/>
            <p:cNvPicPr/>
            <p:nvPr/>
          </p:nvPicPr>
          <p:blipFill>
            <a:blip r:embed="rId6"/>
            <a:stretch/>
          </p:blipFill>
          <p:spPr>
            <a:xfrm>
              <a:off x="-19080" y="4095720"/>
              <a:ext cx="23893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0" y="4114800"/>
              <a:ext cx="2360520" cy="24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4157640" y="2371680"/>
            <a:ext cx="2205000" cy="2205000"/>
            <a:chOff x="4157640" y="2371680"/>
            <a:chExt cx="2205000" cy="2205000"/>
          </a:xfrm>
        </p:grpSpPr>
        <p:pic>
          <p:nvPicPr>
            <p:cNvPr id="356" name="" descr=""/>
            <p:cNvPicPr/>
            <p:nvPr/>
          </p:nvPicPr>
          <p:blipFill>
            <a:blip r:embed="rId7"/>
            <a:stretch/>
          </p:blipFill>
          <p:spPr>
            <a:xfrm>
              <a:off x="4157640" y="2371680"/>
              <a:ext cx="2205000" cy="22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4497480" y="2708280"/>
              <a:ext cx="1535040" cy="15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6364440" y="5821200"/>
            <a:ext cx="1041120" cy="1041480"/>
            <a:chOff x="6364440" y="5821200"/>
            <a:chExt cx="1041120" cy="1041480"/>
          </a:xfrm>
        </p:grpSpPr>
        <p:pic>
          <p:nvPicPr>
            <p:cNvPr id="359" name="" descr=""/>
            <p:cNvPicPr/>
            <p:nvPr/>
          </p:nvPicPr>
          <p:blipFill>
            <a:blip r:embed="rId8"/>
            <a:stretch/>
          </p:blipFill>
          <p:spPr>
            <a:xfrm>
              <a:off x="6364440" y="5821200"/>
              <a:ext cx="104112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6532560" y="5991120"/>
              <a:ext cx="714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6303960" y="1407960"/>
            <a:ext cx="2076480" cy="2076480"/>
            <a:chOff x="6303960" y="1407960"/>
            <a:chExt cx="2076480" cy="2076480"/>
          </a:xfrm>
        </p:grpSpPr>
        <p:pic>
          <p:nvPicPr>
            <p:cNvPr id="362" name="" descr=""/>
            <p:cNvPicPr/>
            <p:nvPr/>
          </p:nvPicPr>
          <p:blipFill>
            <a:blip r:embed="rId9"/>
            <a:stretch/>
          </p:blipFill>
          <p:spPr>
            <a:xfrm>
              <a:off x="6303960" y="1407960"/>
              <a:ext cx="2076480" cy="20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6622920" y="1727280"/>
              <a:ext cx="1444680" cy="14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96840" y="4784760"/>
            <a:ext cx="1986120" cy="1985760"/>
            <a:chOff x="96840" y="4784760"/>
            <a:chExt cx="1986120" cy="1985760"/>
          </a:xfrm>
        </p:grpSpPr>
        <p:pic>
          <p:nvPicPr>
            <p:cNvPr id="365" name="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86120" cy="19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401760" y="5089680"/>
              <a:ext cx="1384200" cy="13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2004840" y="4559400"/>
            <a:ext cx="1054440" cy="1058760"/>
            <a:chOff x="2004840" y="4559400"/>
            <a:chExt cx="1054440" cy="1058760"/>
          </a:xfrm>
        </p:grpSpPr>
        <p:pic>
          <p:nvPicPr>
            <p:cNvPr id="368" name="" descr=""/>
            <p:cNvPicPr/>
            <p:nvPr/>
          </p:nvPicPr>
          <p:blipFill>
            <a:blip r:embed="rId11"/>
            <a:stretch/>
          </p:blipFill>
          <p:spPr>
            <a:xfrm>
              <a:off x="2004840" y="4559400"/>
              <a:ext cx="10544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2171880" y="4729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4151160" y="4608360"/>
            <a:ext cx="1546200" cy="1425600"/>
            <a:chOff x="4151160" y="4608360"/>
            <a:chExt cx="1546200" cy="1425600"/>
          </a:xfrm>
        </p:grpSpPr>
        <p:pic>
          <p:nvPicPr>
            <p:cNvPr id="371" name="" descr=""/>
            <p:cNvPicPr/>
            <p:nvPr/>
          </p:nvPicPr>
          <p:blipFill>
            <a:blip r:embed="rId12"/>
            <a:stretch/>
          </p:blipFill>
          <p:spPr>
            <a:xfrm>
              <a:off x="4151160" y="4608360"/>
              <a:ext cx="154620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4394160" y="4830840"/>
              <a:ext cx="106992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-19080" y="341280"/>
            <a:ext cx="2541600" cy="2419560"/>
            <a:chOff x="-19080" y="341280"/>
            <a:chExt cx="2541600" cy="2419560"/>
          </a:xfrm>
        </p:grpSpPr>
        <p:pic>
          <p:nvPicPr>
            <p:cNvPr id="374" name="" descr=""/>
            <p:cNvPicPr/>
            <p:nvPr/>
          </p:nvPicPr>
          <p:blipFill>
            <a:blip r:embed="rId13"/>
            <a:stretch/>
          </p:blipFill>
          <p:spPr>
            <a:xfrm>
              <a:off x="-19080" y="341280"/>
              <a:ext cx="2541600" cy="241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1440" y="361800"/>
              <a:ext cx="2511720" cy="238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1279440" y="-19080"/>
            <a:ext cx="1548000" cy="639720"/>
            <a:chOff x="1279440" y="-19080"/>
            <a:chExt cx="1548000" cy="639720"/>
          </a:xfrm>
        </p:grpSpPr>
        <p:pic>
          <p:nvPicPr>
            <p:cNvPr id="377" name="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480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1295280" y="0"/>
              <a:ext cx="15224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42840" y="195120"/>
            <a:ext cx="2046240" cy="2052720"/>
            <a:chOff x="42840" y="195120"/>
            <a:chExt cx="2046240" cy="2052720"/>
          </a:xfrm>
        </p:grpSpPr>
        <p:pic>
          <p:nvPicPr>
            <p:cNvPr id="380" name="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46240" cy="20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355680" y="507960"/>
              <a:ext cx="142884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60480" y="3943440"/>
            <a:ext cx="919080" cy="919080"/>
            <a:chOff x="60480" y="3943440"/>
            <a:chExt cx="919080" cy="919080"/>
          </a:xfrm>
        </p:grpSpPr>
        <p:pic>
          <p:nvPicPr>
            <p:cNvPr id="383" name="" descr=""/>
            <p:cNvPicPr/>
            <p:nvPr/>
          </p:nvPicPr>
          <p:blipFill>
            <a:blip r:embed="rId16"/>
            <a:stretch/>
          </p:blipFill>
          <p:spPr>
            <a:xfrm>
              <a:off x="60480" y="3943440"/>
              <a:ext cx="919080" cy="9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206280" y="4092480"/>
              <a:ext cx="62892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2103480" y="1487520"/>
            <a:ext cx="1430280" cy="1430280"/>
            <a:chOff x="2103480" y="1487520"/>
            <a:chExt cx="1430280" cy="1430280"/>
          </a:xfrm>
        </p:grpSpPr>
        <p:pic>
          <p:nvPicPr>
            <p:cNvPr id="386" name="" descr=""/>
            <p:cNvPicPr/>
            <p:nvPr/>
          </p:nvPicPr>
          <p:blipFill>
            <a:blip r:embed="rId17"/>
            <a:stretch/>
          </p:blipFill>
          <p:spPr>
            <a:xfrm>
              <a:off x="2103480" y="1487520"/>
              <a:ext cx="1430280" cy="14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2327400" y="1712880"/>
              <a:ext cx="988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3352680" y="450720"/>
            <a:ext cx="1619280" cy="1621080"/>
            <a:chOff x="3352680" y="450720"/>
            <a:chExt cx="1619280" cy="1621080"/>
          </a:xfrm>
        </p:grpSpPr>
        <p:pic>
          <p:nvPicPr>
            <p:cNvPr id="389" name="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1928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3603600" y="700200"/>
              <a:ext cx="1125720" cy="11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5168880" y="2951280"/>
            <a:ext cx="3267000" cy="3259080"/>
            <a:chOff x="5168880" y="2951280"/>
            <a:chExt cx="3267000" cy="3259080"/>
          </a:xfrm>
        </p:grpSpPr>
        <p:pic>
          <p:nvPicPr>
            <p:cNvPr id="392" name="" descr=""/>
            <p:cNvPicPr/>
            <p:nvPr/>
          </p:nvPicPr>
          <p:blipFill>
            <a:blip r:embed="rId19"/>
            <a:stretch/>
          </p:blipFill>
          <p:spPr>
            <a:xfrm>
              <a:off x="5168880" y="2951280"/>
              <a:ext cx="3267000" cy="32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5664240" y="3441600"/>
              <a:ext cx="22842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5546880" y="-12600"/>
            <a:ext cx="1054080" cy="1058760"/>
            <a:chOff x="5546880" y="-12600"/>
            <a:chExt cx="1054080" cy="1058760"/>
          </a:xfrm>
        </p:grpSpPr>
        <p:pic>
          <p:nvPicPr>
            <p:cNvPr id="395" name="" descr=""/>
            <p:cNvPicPr/>
            <p:nvPr/>
          </p:nvPicPr>
          <p:blipFill>
            <a:blip r:embed="rId20"/>
            <a:stretch/>
          </p:blipFill>
          <p:spPr>
            <a:xfrm>
              <a:off x="554688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5713560" y="157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6931080" y="4645080"/>
            <a:ext cx="2224080" cy="2224080"/>
            <a:chOff x="6931080" y="4645080"/>
            <a:chExt cx="2224080" cy="2224080"/>
          </a:xfrm>
        </p:grpSpPr>
        <p:pic>
          <p:nvPicPr>
            <p:cNvPr id="398" name="" descr=""/>
            <p:cNvPicPr/>
            <p:nvPr/>
          </p:nvPicPr>
          <p:blipFill>
            <a:blip r:embed="rId21"/>
            <a:stretch/>
          </p:blipFill>
          <p:spPr>
            <a:xfrm>
              <a:off x="6931080" y="4645080"/>
              <a:ext cx="2224080" cy="22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7272360" y="4986360"/>
              <a:ext cx="1549440" cy="15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1579680" y="3687840"/>
            <a:ext cx="1228680" cy="1224000"/>
            <a:chOff x="1579680" y="3687840"/>
            <a:chExt cx="1228680" cy="1224000"/>
          </a:xfrm>
        </p:grpSpPr>
        <p:pic>
          <p:nvPicPr>
            <p:cNvPr id="401" name="" descr=""/>
            <p:cNvPicPr/>
            <p:nvPr/>
          </p:nvPicPr>
          <p:blipFill>
            <a:blip r:embed="rId22"/>
            <a:stretch/>
          </p:blipFill>
          <p:spPr>
            <a:xfrm>
              <a:off x="1579680" y="3687840"/>
              <a:ext cx="122868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1774800" y="3881520"/>
              <a:ext cx="844560" cy="8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6308640" y="212760"/>
            <a:ext cx="846360" cy="852480"/>
            <a:chOff x="6308640" y="212760"/>
            <a:chExt cx="846360" cy="852480"/>
          </a:xfrm>
        </p:grpSpPr>
        <p:pic>
          <p:nvPicPr>
            <p:cNvPr id="404" name="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4636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6445080" y="349200"/>
              <a:ext cx="57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8058240" y="-12600"/>
            <a:ext cx="1054080" cy="1058760"/>
            <a:chOff x="8058240" y="-12600"/>
            <a:chExt cx="1054080" cy="1058760"/>
          </a:xfrm>
        </p:grpSpPr>
        <p:pic>
          <p:nvPicPr>
            <p:cNvPr id="407" name="" descr=""/>
            <p:cNvPicPr/>
            <p:nvPr/>
          </p:nvPicPr>
          <p:blipFill>
            <a:blip r:embed="rId24"/>
            <a:stretch/>
          </p:blipFill>
          <p:spPr>
            <a:xfrm>
              <a:off x="805824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8228160" y="157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5394240" y="6308640"/>
            <a:ext cx="1548000" cy="560520"/>
            <a:chOff x="5394240" y="6308640"/>
            <a:chExt cx="1548000" cy="560520"/>
          </a:xfrm>
        </p:grpSpPr>
        <p:pic>
          <p:nvPicPr>
            <p:cNvPr id="410" name="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4800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5410080" y="6324480"/>
              <a:ext cx="1522440" cy="5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2992320" y="-12600"/>
            <a:ext cx="1054080" cy="1058760"/>
            <a:chOff x="2992320" y="-12600"/>
            <a:chExt cx="1054080" cy="1058760"/>
          </a:xfrm>
        </p:grpSpPr>
        <p:pic>
          <p:nvPicPr>
            <p:cNvPr id="413" name="" descr=""/>
            <p:cNvPicPr/>
            <p:nvPr/>
          </p:nvPicPr>
          <p:blipFill>
            <a:blip r:embed="rId26"/>
            <a:stretch/>
          </p:blipFill>
          <p:spPr>
            <a:xfrm>
              <a:off x="299232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3162240" y="157320"/>
              <a:ext cx="72396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15" name="" descr=""/>
          <p:cNvPicPr/>
          <p:nvPr/>
        </p:nvPicPr>
        <p:blipFill>
          <a:blip r:embed="rId27"/>
          <a:stretch/>
        </p:blipFill>
        <p:spPr>
          <a:xfrm>
            <a:off x="-6480" y="4950000"/>
            <a:ext cx="9156960" cy="46980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8"/>
          <a:stretch/>
        </p:blipFill>
        <p:spPr>
          <a:xfrm>
            <a:off x="-6480" y="3425760"/>
            <a:ext cx="9156960" cy="153684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7"/>
          </p:nvPr>
        </p:nvSpPr>
        <p:spPr>
          <a:xfrm>
            <a:off x="5790960" y="6357960"/>
            <a:ext cx="29732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9e5"/>
                </a:solidFill>
                <a:latin typeface="Constanti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133720" y="6357960"/>
            <a:ext cx="3581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sldNum" idx="8"/>
          </p:nvPr>
        </p:nvSpPr>
        <p:spPr>
          <a:xfrm>
            <a:off x="155160" y="6314760"/>
            <a:ext cx="1187640" cy="45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800" spc="-1" strike="noStrike">
                <a:solidFill>
                  <a:srgbClr val="fff9e5"/>
                </a:solidFill>
                <a:latin typeface="Constanti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9EDE5819-04A7-4D62-B125-840CBF828585}" type="slidenum">
              <a:rPr b="0" lang="en-US" sz="2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9"/>
    <p:sldLayoutId id="2147483689" r:id="rId30"/>
    <p:sldLayoutId id="2147483690" r:id="rId31"/>
    <p:sldLayoutId id="2147483691" r:id="rId32"/>
    <p:sldLayoutId id="2147483692" r:id="rId33"/>
    <p:sldLayoutId id="2147483693" r:id="rId34"/>
    <p:sldLayoutId id="2147483694" r:id="rId35"/>
    <p:sldLayoutId id="2147483695" r:id="rId36"/>
    <p:sldLayoutId id="2147483696" r:id="rId37"/>
    <p:sldLayoutId id="2147483697" r:id="rId38"/>
    <p:sldLayoutId id="2147483698" r:id="rId39"/>
    <p:sldLayoutId id="2147483699" r:id="rId4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"/>
          <p:cNvGrpSpPr/>
          <p:nvPr/>
        </p:nvGrpSpPr>
        <p:grpSpPr>
          <a:xfrm>
            <a:off x="895320" y="2273400"/>
            <a:ext cx="2773440" cy="2157480"/>
            <a:chOff x="895320" y="2273400"/>
            <a:chExt cx="2773440" cy="2157480"/>
          </a:xfrm>
        </p:grpSpPr>
        <p:pic>
          <p:nvPicPr>
            <p:cNvPr id="459" name="" descr=""/>
            <p:cNvPicPr/>
            <p:nvPr/>
          </p:nvPicPr>
          <p:blipFill>
            <a:blip r:embed="rId3"/>
            <a:stretch/>
          </p:blipFill>
          <p:spPr>
            <a:xfrm>
              <a:off x="895320" y="2273400"/>
              <a:ext cx="2773440" cy="21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914400" y="2292480"/>
              <a:ext cx="2741760" cy="21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2955960" y="5052960"/>
            <a:ext cx="1790640" cy="1766880"/>
            <a:chOff x="2955960" y="5052960"/>
            <a:chExt cx="1790640" cy="1766880"/>
          </a:xfrm>
        </p:grpSpPr>
        <p:pic>
          <p:nvPicPr>
            <p:cNvPr id="462" name="" descr=""/>
            <p:cNvPicPr/>
            <p:nvPr/>
          </p:nvPicPr>
          <p:blipFill>
            <a:blip r:embed="rId4"/>
            <a:stretch/>
          </p:blipFill>
          <p:spPr>
            <a:xfrm>
              <a:off x="2955960" y="5052960"/>
              <a:ext cx="179064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3235320" y="5326200"/>
              <a:ext cx="1241280" cy="12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5241960" y="-19080"/>
            <a:ext cx="3913200" cy="3078360"/>
            <a:chOff x="5241960" y="-19080"/>
            <a:chExt cx="3913200" cy="3078360"/>
          </a:xfrm>
        </p:grpSpPr>
        <p:pic>
          <p:nvPicPr>
            <p:cNvPr id="465" name="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3200" cy="30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5257800" y="0"/>
              <a:ext cx="3884760" cy="30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-19080" y="4095720"/>
            <a:ext cx="2389320" cy="2492280"/>
            <a:chOff x="-19080" y="4095720"/>
            <a:chExt cx="2389320" cy="2492280"/>
          </a:xfrm>
        </p:grpSpPr>
        <p:pic>
          <p:nvPicPr>
            <p:cNvPr id="468" name="" descr=""/>
            <p:cNvPicPr/>
            <p:nvPr/>
          </p:nvPicPr>
          <p:blipFill>
            <a:blip r:embed="rId6"/>
            <a:stretch/>
          </p:blipFill>
          <p:spPr>
            <a:xfrm>
              <a:off x="-19080" y="4095720"/>
              <a:ext cx="23893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0" y="4114800"/>
              <a:ext cx="2360520" cy="24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4157640" y="2371680"/>
            <a:ext cx="2205000" cy="2205000"/>
            <a:chOff x="4157640" y="2371680"/>
            <a:chExt cx="2205000" cy="2205000"/>
          </a:xfrm>
        </p:grpSpPr>
        <p:pic>
          <p:nvPicPr>
            <p:cNvPr id="471" name="" descr=""/>
            <p:cNvPicPr/>
            <p:nvPr/>
          </p:nvPicPr>
          <p:blipFill>
            <a:blip r:embed="rId7"/>
            <a:stretch/>
          </p:blipFill>
          <p:spPr>
            <a:xfrm>
              <a:off x="4157640" y="2371680"/>
              <a:ext cx="2205000" cy="22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4497480" y="2708280"/>
              <a:ext cx="1535040" cy="15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6364440" y="5821200"/>
            <a:ext cx="1041120" cy="1041480"/>
            <a:chOff x="6364440" y="5821200"/>
            <a:chExt cx="1041120" cy="1041480"/>
          </a:xfrm>
        </p:grpSpPr>
        <p:pic>
          <p:nvPicPr>
            <p:cNvPr id="474" name="" descr=""/>
            <p:cNvPicPr/>
            <p:nvPr/>
          </p:nvPicPr>
          <p:blipFill>
            <a:blip r:embed="rId8"/>
            <a:stretch/>
          </p:blipFill>
          <p:spPr>
            <a:xfrm>
              <a:off x="6364440" y="5821200"/>
              <a:ext cx="104112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"/>
            <p:cNvSpPr/>
            <p:nvPr/>
          </p:nvSpPr>
          <p:spPr>
            <a:xfrm>
              <a:off x="6532560" y="5991120"/>
              <a:ext cx="714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6303960" y="1407960"/>
            <a:ext cx="2076480" cy="2076480"/>
            <a:chOff x="6303960" y="1407960"/>
            <a:chExt cx="2076480" cy="2076480"/>
          </a:xfrm>
        </p:grpSpPr>
        <p:pic>
          <p:nvPicPr>
            <p:cNvPr id="477" name="" descr=""/>
            <p:cNvPicPr/>
            <p:nvPr/>
          </p:nvPicPr>
          <p:blipFill>
            <a:blip r:embed="rId9"/>
            <a:stretch/>
          </p:blipFill>
          <p:spPr>
            <a:xfrm>
              <a:off x="6303960" y="1407960"/>
              <a:ext cx="2076480" cy="20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6622920" y="1727280"/>
              <a:ext cx="1444680" cy="14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96840" y="4784760"/>
            <a:ext cx="1986120" cy="1985760"/>
            <a:chOff x="96840" y="4784760"/>
            <a:chExt cx="1986120" cy="1985760"/>
          </a:xfrm>
        </p:grpSpPr>
        <p:pic>
          <p:nvPicPr>
            <p:cNvPr id="480" name="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86120" cy="19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"/>
            <p:cNvSpPr/>
            <p:nvPr/>
          </p:nvSpPr>
          <p:spPr>
            <a:xfrm>
              <a:off x="401760" y="5089680"/>
              <a:ext cx="1384200" cy="13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2004840" y="4559400"/>
            <a:ext cx="1054440" cy="1058760"/>
            <a:chOff x="2004840" y="4559400"/>
            <a:chExt cx="1054440" cy="1058760"/>
          </a:xfrm>
        </p:grpSpPr>
        <p:pic>
          <p:nvPicPr>
            <p:cNvPr id="483" name="" descr=""/>
            <p:cNvPicPr/>
            <p:nvPr/>
          </p:nvPicPr>
          <p:blipFill>
            <a:blip r:embed="rId11"/>
            <a:stretch/>
          </p:blipFill>
          <p:spPr>
            <a:xfrm>
              <a:off x="2004840" y="4559400"/>
              <a:ext cx="10544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2171880" y="4729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4151160" y="4608360"/>
            <a:ext cx="1546200" cy="1425600"/>
            <a:chOff x="4151160" y="4608360"/>
            <a:chExt cx="1546200" cy="1425600"/>
          </a:xfrm>
        </p:grpSpPr>
        <p:pic>
          <p:nvPicPr>
            <p:cNvPr id="486" name="" descr=""/>
            <p:cNvPicPr/>
            <p:nvPr/>
          </p:nvPicPr>
          <p:blipFill>
            <a:blip r:embed="rId12"/>
            <a:stretch/>
          </p:blipFill>
          <p:spPr>
            <a:xfrm>
              <a:off x="4151160" y="4608360"/>
              <a:ext cx="154620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4394160" y="4830840"/>
              <a:ext cx="106992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-19080" y="341280"/>
            <a:ext cx="2541600" cy="2419560"/>
            <a:chOff x="-19080" y="341280"/>
            <a:chExt cx="2541600" cy="2419560"/>
          </a:xfrm>
        </p:grpSpPr>
        <p:pic>
          <p:nvPicPr>
            <p:cNvPr id="489" name="" descr=""/>
            <p:cNvPicPr/>
            <p:nvPr/>
          </p:nvPicPr>
          <p:blipFill>
            <a:blip r:embed="rId13"/>
            <a:stretch/>
          </p:blipFill>
          <p:spPr>
            <a:xfrm>
              <a:off x="-19080" y="341280"/>
              <a:ext cx="2541600" cy="241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1440" y="361800"/>
              <a:ext cx="2511720" cy="238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1279440" y="-19080"/>
            <a:ext cx="1548000" cy="639720"/>
            <a:chOff x="1279440" y="-19080"/>
            <a:chExt cx="1548000" cy="639720"/>
          </a:xfrm>
        </p:grpSpPr>
        <p:pic>
          <p:nvPicPr>
            <p:cNvPr id="492" name="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480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1295280" y="0"/>
              <a:ext cx="15224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42840" y="195120"/>
            <a:ext cx="2046240" cy="2052720"/>
            <a:chOff x="42840" y="195120"/>
            <a:chExt cx="2046240" cy="2052720"/>
          </a:xfrm>
        </p:grpSpPr>
        <p:pic>
          <p:nvPicPr>
            <p:cNvPr id="495" name="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46240" cy="20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355680" y="507960"/>
              <a:ext cx="142884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60480" y="3943440"/>
            <a:ext cx="919080" cy="919080"/>
            <a:chOff x="60480" y="3943440"/>
            <a:chExt cx="919080" cy="919080"/>
          </a:xfrm>
        </p:grpSpPr>
        <p:pic>
          <p:nvPicPr>
            <p:cNvPr id="498" name="" descr=""/>
            <p:cNvPicPr/>
            <p:nvPr/>
          </p:nvPicPr>
          <p:blipFill>
            <a:blip r:embed="rId16"/>
            <a:stretch/>
          </p:blipFill>
          <p:spPr>
            <a:xfrm>
              <a:off x="60480" y="3943440"/>
              <a:ext cx="919080" cy="9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206280" y="4092480"/>
              <a:ext cx="62892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2103480" y="1487520"/>
            <a:ext cx="1430280" cy="1430280"/>
            <a:chOff x="2103480" y="1487520"/>
            <a:chExt cx="1430280" cy="1430280"/>
          </a:xfrm>
        </p:grpSpPr>
        <p:pic>
          <p:nvPicPr>
            <p:cNvPr id="501" name="" descr=""/>
            <p:cNvPicPr/>
            <p:nvPr/>
          </p:nvPicPr>
          <p:blipFill>
            <a:blip r:embed="rId17"/>
            <a:stretch/>
          </p:blipFill>
          <p:spPr>
            <a:xfrm>
              <a:off x="2103480" y="1487520"/>
              <a:ext cx="1430280" cy="14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"/>
            <p:cNvSpPr/>
            <p:nvPr/>
          </p:nvSpPr>
          <p:spPr>
            <a:xfrm>
              <a:off x="2327400" y="1712880"/>
              <a:ext cx="988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3352680" y="450720"/>
            <a:ext cx="1619280" cy="1621080"/>
            <a:chOff x="3352680" y="450720"/>
            <a:chExt cx="1619280" cy="1621080"/>
          </a:xfrm>
        </p:grpSpPr>
        <p:pic>
          <p:nvPicPr>
            <p:cNvPr id="504" name="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1928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>
              <a:off x="3603600" y="700200"/>
              <a:ext cx="1125720" cy="11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5168880" y="2951280"/>
            <a:ext cx="3267000" cy="3259080"/>
            <a:chOff x="5168880" y="2951280"/>
            <a:chExt cx="3267000" cy="3259080"/>
          </a:xfrm>
        </p:grpSpPr>
        <p:pic>
          <p:nvPicPr>
            <p:cNvPr id="507" name="" descr=""/>
            <p:cNvPicPr/>
            <p:nvPr/>
          </p:nvPicPr>
          <p:blipFill>
            <a:blip r:embed="rId19"/>
            <a:stretch/>
          </p:blipFill>
          <p:spPr>
            <a:xfrm>
              <a:off x="5168880" y="2951280"/>
              <a:ext cx="3267000" cy="32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5664240" y="3441600"/>
              <a:ext cx="22842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5546880" y="-12600"/>
            <a:ext cx="1054080" cy="1058760"/>
            <a:chOff x="5546880" y="-12600"/>
            <a:chExt cx="1054080" cy="1058760"/>
          </a:xfrm>
        </p:grpSpPr>
        <p:pic>
          <p:nvPicPr>
            <p:cNvPr id="510" name="" descr=""/>
            <p:cNvPicPr/>
            <p:nvPr/>
          </p:nvPicPr>
          <p:blipFill>
            <a:blip r:embed="rId20"/>
            <a:stretch/>
          </p:blipFill>
          <p:spPr>
            <a:xfrm>
              <a:off x="554688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5713560" y="157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6931080" y="4645080"/>
            <a:ext cx="2224080" cy="2224080"/>
            <a:chOff x="6931080" y="4645080"/>
            <a:chExt cx="2224080" cy="2224080"/>
          </a:xfrm>
        </p:grpSpPr>
        <p:pic>
          <p:nvPicPr>
            <p:cNvPr id="513" name="" descr=""/>
            <p:cNvPicPr/>
            <p:nvPr/>
          </p:nvPicPr>
          <p:blipFill>
            <a:blip r:embed="rId21"/>
            <a:stretch/>
          </p:blipFill>
          <p:spPr>
            <a:xfrm>
              <a:off x="6931080" y="4645080"/>
              <a:ext cx="2224080" cy="22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7272360" y="4986360"/>
              <a:ext cx="1549440" cy="15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1579680" y="3687840"/>
            <a:ext cx="1228680" cy="1224000"/>
            <a:chOff x="1579680" y="3687840"/>
            <a:chExt cx="1228680" cy="1224000"/>
          </a:xfrm>
        </p:grpSpPr>
        <p:pic>
          <p:nvPicPr>
            <p:cNvPr id="516" name="" descr=""/>
            <p:cNvPicPr/>
            <p:nvPr/>
          </p:nvPicPr>
          <p:blipFill>
            <a:blip r:embed="rId22"/>
            <a:stretch/>
          </p:blipFill>
          <p:spPr>
            <a:xfrm>
              <a:off x="1579680" y="3687840"/>
              <a:ext cx="122868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1774800" y="3881520"/>
              <a:ext cx="844560" cy="8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6308640" y="212760"/>
            <a:ext cx="846360" cy="852480"/>
            <a:chOff x="6308640" y="212760"/>
            <a:chExt cx="846360" cy="852480"/>
          </a:xfrm>
        </p:grpSpPr>
        <p:pic>
          <p:nvPicPr>
            <p:cNvPr id="519" name="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4636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6445080" y="349200"/>
              <a:ext cx="57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8058240" y="-12600"/>
            <a:ext cx="1054080" cy="1058760"/>
            <a:chOff x="8058240" y="-12600"/>
            <a:chExt cx="1054080" cy="1058760"/>
          </a:xfrm>
        </p:grpSpPr>
        <p:pic>
          <p:nvPicPr>
            <p:cNvPr id="522" name="" descr=""/>
            <p:cNvPicPr/>
            <p:nvPr/>
          </p:nvPicPr>
          <p:blipFill>
            <a:blip r:embed="rId24"/>
            <a:stretch/>
          </p:blipFill>
          <p:spPr>
            <a:xfrm>
              <a:off x="805824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8228160" y="157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5394240" y="6308640"/>
            <a:ext cx="1548000" cy="560520"/>
            <a:chOff x="5394240" y="6308640"/>
            <a:chExt cx="1548000" cy="560520"/>
          </a:xfrm>
        </p:grpSpPr>
        <p:pic>
          <p:nvPicPr>
            <p:cNvPr id="525" name="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4800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5410080" y="6324480"/>
              <a:ext cx="1522440" cy="5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2992320" y="-12600"/>
            <a:ext cx="1054080" cy="1058760"/>
            <a:chOff x="2992320" y="-12600"/>
            <a:chExt cx="1054080" cy="1058760"/>
          </a:xfrm>
        </p:grpSpPr>
        <p:pic>
          <p:nvPicPr>
            <p:cNvPr id="528" name="" descr=""/>
            <p:cNvPicPr/>
            <p:nvPr/>
          </p:nvPicPr>
          <p:blipFill>
            <a:blip r:embed="rId26"/>
            <a:stretch/>
          </p:blipFill>
          <p:spPr>
            <a:xfrm>
              <a:off x="299232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3162240" y="157320"/>
              <a:ext cx="72396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30" name="" descr=""/>
          <p:cNvPicPr/>
          <p:nvPr/>
        </p:nvPicPr>
        <p:blipFill>
          <a:blip r:embed="rId27"/>
          <a:stretch/>
        </p:blipFill>
        <p:spPr>
          <a:xfrm>
            <a:off x="-6480" y="1298520"/>
            <a:ext cx="9156960" cy="5400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9"/>
          </p:nvPr>
        </p:nvSpPr>
        <p:spPr>
          <a:xfrm>
            <a:off x="5790960" y="6357960"/>
            <a:ext cx="29732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9e5"/>
                </a:solidFill>
                <a:latin typeface="Constanti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133720" y="6357960"/>
            <a:ext cx="3581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sldNum" idx="10"/>
          </p:nvPr>
        </p:nvSpPr>
        <p:spPr>
          <a:xfrm>
            <a:off x="155160" y="6314760"/>
            <a:ext cx="1187640" cy="45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800" spc="-1" strike="noStrike">
                <a:solidFill>
                  <a:srgbClr val="fff9e5"/>
                </a:solidFill>
                <a:latin typeface="Constanti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558961BF-2375-44CB-96FE-447A891C7FF0}" type="slidenum">
              <a:rPr b="0" lang="en-US" sz="2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8"/>
    <p:sldLayoutId id="2147483702" r:id="rId29"/>
    <p:sldLayoutId id="2147483703" r:id="rId30"/>
    <p:sldLayoutId id="2147483704" r:id="rId31"/>
    <p:sldLayoutId id="2147483705" r:id="rId32"/>
    <p:sldLayoutId id="2147483706" r:id="rId33"/>
    <p:sldLayoutId id="2147483707" r:id="rId34"/>
    <p:sldLayoutId id="2147483708" r:id="rId35"/>
    <p:sldLayoutId id="2147483709" r:id="rId36"/>
    <p:sldLayoutId id="2147483710" r:id="rId37"/>
    <p:sldLayoutId id="2147483711" r:id="rId38"/>
    <p:sldLayoutId id="2147483712" r:id="rId3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"/>
          <p:cNvGrpSpPr/>
          <p:nvPr/>
        </p:nvGrpSpPr>
        <p:grpSpPr>
          <a:xfrm>
            <a:off x="895320" y="2273400"/>
            <a:ext cx="2773440" cy="2157480"/>
            <a:chOff x="895320" y="2273400"/>
            <a:chExt cx="2773440" cy="2157480"/>
          </a:xfrm>
        </p:grpSpPr>
        <p:pic>
          <p:nvPicPr>
            <p:cNvPr id="573" name="" descr=""/>
            <p:cNvPicPr/>
            <p:nvPr/>
          </p:nvPicPr>
          <p:blipFill>
            <a:blip r:embed="rId3"/>
            <a:stretch/>
          </p:blipFill>
          <p:spPr>
            <a:xfrm>
              <a:off x="895320" y="2273400"/>
              <a:ext cx="2773440" cy="21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14400" y="2292480"/>
              <a:ext cx="2741760" cy="21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2955960" y="5052960"/>
            <a:ext cx="1790640" cy="1766880"/>
            <a:chOff x="2955960" y="5052960"/>
            <a:chExt cx="1790640" cy="1766880"/>
          </a:xfrm>
        </p:grpSpPr>
        <p:pic>
          <p:nvPicPr>
            <p:cNvPr id="576" name="" descr=""/>
            <p:cNvPicPr/>
            <p:nvPr/>
          </p:nvPicPr>
          <p:blipFill>
            <a:blip r:embed="rId4"/>
            <a:stretch/>
          </p:blipFill>
          <p:spPr>
            <a:xfrm>
              <a:off x="2955960" y="5052960"/>
              <a:ext cx="179064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"/>
            <p:cNvSpPr/>
            <p:nvPr/>
          </p:nvSpPr>
          <p:spPr>
            <a:xfrm>
              <a:off x="3235320" y="5326200"/>
              <a:ext cx="1241280" cy="12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5241960" y="-19080"/>
            <a:ext cx="3913200" cy="3078360"/>
            <a:chOff x="5241960" y="-19080"/>
            <a:chExt cx="3913200" cy="3078360"/>
          </a:xfrm>
        </p:grpSpPr>
        <p:pic>
          <p:nvPicPr>
            <p:cNvPr id="579" name="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3200" cy="30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5257800" y="0"/>
              <a:ext cx="3884760" cy="30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-19080" y="4095720"/>
            <a:ext cx="2389320" cy="2492280"/>
            <a:chOff x="-19080" y="4095720"/>
            <a:chExt cx="2389320" cy="2492280"/>
          </a:xfrm>
        </p:grpSpPr>
        <p:pic>
          <p:nvPicPr>
            <p:cNvPr id="582" name="" descr=""/>
            <p:cNvPicPr/>
            <p:nvPr/>
          </p:nvPicPr>
          <p:blipFill>
            <a:blip r:embed="rId6"/>
            <a:stretch/>
          </p:blipFill>
          <p:spPr>
            <a:xfrm>
              <a:off x="-19080" y="4095720"/>
              <a:ext cx="23893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0" y="4114800"/>
              <a:ext cx="2360520" cy="24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4157640" y="2371680"/>
            <a:ext cx="2205000" cy="2205000"/>
            <a:chOff x="4157640" y="2371680"/>
            <a:chExt cx="2205000" cy="2205000"/>
          </a:xfrm>
        </p:grpSpPr>
        <p:pic>
          <p:nvPicPr>
            <p:cNvPr id="585" name="" descr=""/>
            <p:cNvPicPr/>
            <p:nvPr/>
          </p:nvPicPr>
          <p:blipFill>
            <a:blip r:embed="rId7"/>
            <a:stretch/>
          </p:blipFill>
          <p:spPr>
            <a:xfrm>
              <a:off x="4157640" y="2371680"/>
              <a:ext cx="2205000" cy="22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4497480" y="2708280"/>
              <a:ext cx="1535040" cy="15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6364440" y="5821200"/>
            <a:ext cx="1041120" cy="1041480"/>
            <a:chOff x="6364440" y="5821200"/>
            <a:chExt cx="1041120" cy="1041480"/>
          </a:xfrm>
        </p:grpSpPr>
        <p:pic>
          <p:nvPicPr>
            <p:cNvPr id="588" name="" descr=""/>
            <p:cNvPicPr/>
            <p:nvPr/>
          </p:nvPicPr>
          <p:blipFill>
            <a:blip r:embed="rId8"/>
            <a:stretch/>
          </p:blipFill>
          <p:spPr>
            <a:xfrm>
              <a:off x="6364440" y="5821200"/>
              <a:ext cx="104112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"/>
            <p:cNvSpPr/>
            <p:nvPr/>
          </p:nvSpPr>
          <p:spPr>
            <a:xfrm>
              <a:off x="6532560" y="5991120"/>
              <a:ext cx="714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6303960" y="1407960"/>
            <a:ext cx="2076480" cy="2076480"/>
            <a:chOff x="6303960" y="1407960"/>
            <a:chExt cx="2076480" cy="2076480"/>
          </a:xfrm>
        </p:grpSpPr>
        <p:pic>
          <p:nvPicPr>
            <p:cNvPr id="591" name="" descr=""/>
            <p:cNvPicPr/>
            <p:nvPr/>
          </p:nvPicPr>
          <p:blipFill>
            <a:blip r:embed="rId9"/>
            <a:stretch/>
          </p:blipFill>
          <p:spPr>
            <a:xfrm>
              <a:off x="6303960" y="1407960"/>
              <a:ext cx="2076480" cy="20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6622920" y="1727280"/>
              <a:ext cx="1444680" cy="14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96840" y="4784760"/>
            <a:ext cx="1986120" cy="1985760"/>
            <a:chOff x="96840" y="4784760"/>
            <a:chExt cx="1986120" cy="1985760"/>
          </a:xfrm>
        </p:grpSpPr>
        <p:pic>
          <p:nvPicPr>
            <p:cNvPr id="594" name="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86120" cy="19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401760" y="5089680"/>
              <a:ext cx="1384200" cy="13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2004840" y="4559400"/>
            <a:ext cx="1054440" cy="1058760"/>
            <a:chOff x="2004840" y="4559400"/>
            <a:chExt cx="1054440" cy="1058760"/>
          </a:xfrm>
        </p:grpSpPr>
        <p:pic>
          <p:nvPicPr>
            <p:cNvPr id="597" name="" descr=""/>
            <p:cNvPicPr/>
            <p:nvPr/>
          </p:nvPicPr>
          <p:blipFill>
            <a:blip r:embed="rId11"/>
            <a:stretch/>
          </p:blipFill>
          <p:spPr>
            <a:xfrm>
              <a:off x="2004840" y="4559400"/>
              <a:ext cx="10544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/>
            <p:nvPr/>
          </p:nvSpPr>
          <p:spPr>
            <a:xfrm>
              <a:off x="2171880" y="4729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4151160" y="4608360"/>
            <a:ext cx="1546200" cy="1425600"/>
            <a:chOff x="4151160" y="4608360"/>
            <a:chExt cx="1546200" cy="1425600"/>
          </a:xfrm>
        </p:grpSpPr>
        <p:pic>
          <p:nvPicPr>
            <p:cNvPr id="600" name="" descr=""/>
            <p:cNvPicPr/>
            <p:nvPr/>
          </p:nvPicPr>
          <p:blipFill>
            <a:blip r:embed="rId12"/>
            <a:stretch/>
          </p:blipFill>
          <p:spPr>
            <a:xfrm>
              <a:off x="4151160" y="4608360"/>
              <a:ext cx="154620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4394160" y="4830840"/>
              <a:ext cx="106992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-19080" y="341280"/>
            <a:ext cx="2541600" cy="2419560"/>
            <a:chOff x="-19080" y="341280"/>
            <a:chExt cx="2541600" cy="2419560"/>
          </a:xfrm>
        </p:grpSpPr>
        <p:pic>
          <p:nvPicPr>
            <p:cNvPr id="603" name="" descr=""/>
            <p:cNvPicPr/>
            <p:nvPr/>
          </p:nvPicPr>
          <p:blipFill>
            <a:blip r:embed="rId13"/>
            <a:stretch/>
          </p:blipFill>
          <p:spPr>
            <a:xfrm>
              <a:off x="-19080" y="341280"/>
              <a:ext cx="2541600" cy="241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"/>
            <p:cNvSpPr/>
            <p:nvPr/>
          </p:nvSpPr>
          <p:spPr>
            <a:xfrm>
              <a:off x="1440" y="361800"/>
              <a:ext cx="2511720" cy="238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1279440" y="-19080"/>
            <a:ext cx="1548000" cy="639720"/>
            <a:chOff x="1279440" y="-19080"/>
            <a:chExt cx="1548000" cy="639720"/>
          </a:xfrm>
        </p:grpSpPr>
        <p:pic>
          <p:nvPicPr>
            <p:cNvPr id="606" name="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480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>
              <a:off x="1295280" y="0"/>
              <a:ext cx="15224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42840" y="195120"/>
            <a:ext cx="2046240" cy="2052720"/>
            <a:chOff x="42840" y="195120"/>
            <a:chExt cx="2046240" cy="2052720"/>
          </a:xfrm>
        </p:grpSpPr>
        <p:pic>
          <p:nvPicPr>
            <p:cNvPr id="609" name="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46240" cy="20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"/>
            <p:cNvSpPr/>
            <p:nvPr/>
          </p:nvSpPr>
          <p:spPr>
            <a:xfrm>
              <a:off x="355680" y="507960"/>
              <a:ext cx="142884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60480" y="3943440"/>
            <a:ext cx="919080" cy="919080"/>
            <a:chOff x="60480" y="3943440"/>
            <a:chExt cx="919080" cy="919080"/>
          </a:xfrm>
        </p:grpSpPr>
        <p:pic>
          <p:nvPicPr>
            <p:cNvPr id="612" name="" descr=""/>
            <p:cNvPicPr/>
            <p:nvPr/>
          </p:nvPicPr>
          <p:blipFill>
            <a:blip r:embed="rId16"/>
            <a:stretch/>
          </p:blipFill>
          <p:spPr>
            <a:xfrm>
              <a:off x="60480" y="3943440"/>
              <a:ext cx="919080" cy="9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"/>
            <p:cNvSpPr/>
            <p:nvPr/>
          </p:nvSpPr>
          <p:spPr>
            <a:xfrm>
              <a:off x="206280" y="4092480"/>
              <a:ext cx="62892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2103480" y="1487520"/>
            <a:ext cx="1430280" cy="1430280"/>
            <a:chOff x="2103480" y="1487520"/>
            <a:chExt cx="1430280" cy="1430280"/>
          </a:xfrm>
        </p:grpSpPr>
        <p:pic>
          <p:nvPicPr>
            <p:cNvPr id="615" name="" descr=""/>
            <p:cNvPicPr/>
            <p:nvPr/>
          </p:nvPicPr>
          <p:blipFill>
            <a:blip r:embed="rId17"/>
            <a:stretch/>
          </p:blipFill>
          <p:spPr>
            <a:xfrm>
              <a:off x="2103480" y="1487520"/>
              <a:ext cx="1430280" cy="14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"/>
            <p:cNvSpPr/>
            <p:nvPr/>
          </p:nvSpPr>
          <p:spPr>
            <a:xfrm>
              <a:off x="2327400" y="1712880"/>
              <a:ext cx="988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3352680" y="450720"/>
            <a:ext cx="1619280" cy="1621080"/>
            <a:chOff x="3352680" y="450720"/>
            <a:chExt cx="1619280" cy="1621080"/>
          </a:xfrm>
        </p:grpSpPr>
        <p:pic>
          <p:nvPicPr>
            <p:cNvPr id="618" name="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1928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"/>
            <p:cNvSpPr/>
            <p:nvPr/>
          </p:nvSpPr>
          <p:spPr>
            <a:xfrm>
              <a:off x="3603600" y="700200"/>
              <a:ext cx="1125720" cy="11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5168880" y="2951280"/>
            <a:ext cx="3267000" cy="3259080"/>
            <a:chOff x="5168880" y="2951280"/>
            <a:chExt cx="3267000" cy="3259080"/>
          </a:xfrm>
        </p:grpSpPr>
        <p:pic>
          <p:nvPicPr>
            <p:cNvPr id="621" name="" descr=""/>
            <p:cNvPicPr/>
            <p:nvPr/>
          </p:nvPicPr>
          <p:blipFill>
            <a:blip r:embed="rId19"/>
            <a:stretch/>
          </p:blipFill>
          <p:spPr>
            <a:xfrm>
              <a:off x="5168880" y="2951280"/>
              <a:ext cx="3267000" cy="32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"/>
            <p:cNvSpPr/>
            <p:nvPr/>
          </p:nvSpPr>
          <p:spPr>
            <a:xfrm>
              <a:off x="5664240" y="3441600"/>
              <a:ext cx="22842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5546880" y="-12600"/>
            <a:ext cx="1054080" cy="1058760"/>
            <a:chOff x="5546880" y="-12600"/>
            <a:chExt cx="1054080" cy="1058760"/>
          </a:xfrm>
        </p:grpSpPr>
        <p:pic>
          <p:nvPicPr>
            <p:cNvPr id="624" name="" descr=""/>
            <p:cNvPicPr/>
            <p:nvPr/>
          </p:nvPicPr>
          <p:blipFill>
            <a:blip r:embed="rId20"/>
            <a:stretch/>
          </p:blipFill>
          <p:spPr>
            <a:xfrm>
              <a:off x="554688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"/>
            <p:cNvSpPr/>
            <p:nvPr/>
          </p:nvSpPr>
          <p:spPr>
            <a:xfrm>
              <a:off x="5713560" y="157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6931080" y="4645080"/>
            <a:ext cx="2224080" cy="2224080"/>
            <a:chOff x="6931080" y="4645080"/>
            <a:chExt cx="2224080" cy="2224080"/>
          </a:xfrm>
        </p:grpSpPr>
        <p:pic>
          <p:nvPicPr>
            <p:cNvPr id="627" name="" descr=""/>
            <p:cNvPicPr/>
            <p:nvPr/>
          </p:nvPicPr>
          <p:blipFill>
            <a:blip r:embed="rId21"/>
            <a:stretch/>
          </p:blipFill>
          <p:spPr>
            <a:xfrm>
              <a:off x="6931080" y="4645080"/>
              <a:ext cx="2224080" cy="22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"/>
            <p:cNvSpPr/>
            <p:nvPr/>
          </p:nvSpPr>
          <p:spPr>
            <a:xfrm>
              <a:off x="7272360" y="4986360"/>
              <a:ext cx="1549440" cy="15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1579680" y="3687840"/>
            <a:ext cx="1228680" cy="1224000"/>
            <a:chOff x="1579680" y="3687840"/>
            <a:chExt cx="1228680" cy="1224000"/>
          </a:xfrm>
        </p:grpSpPr>
        <p:pic>
          <p:nvPicPr>
            <p:cNvPr id="630" name="" descr=""/>
            <p:cNvPicPr/>
            <p:nvPr/>
          </p:nvPicPr>
          <p:blipFill>
            <a:blip r:embed="rId22"/>
            <a:stretch/>
          </p:blipFill>
          <p:spPr>
            <a:xfrm>
              <a:off x="1579680" y="3687840"/>
              <a:ext cx="122868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"/>
            <p:cNvSpPr/>
            <p:nvPr/>
          </p:nvSpPr>
          <p:spPr>
            <a:xfrm>
              <a:off x="1774800" y="3881520"/>
              <a:ext cx="844560" cy="8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6308640" y="212760"/>
            <a:ext cx="846360" cy="852480"/>
            <a:chOff x="6308640" y="212760"/>
            <a:chExt cx="846360" cy="852480"/>
          </a:xfrm>
        </p:grpSpPr>
        <p:pic>
          <p:nvPicPr>
            <p:cNvPr id="633" name="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4636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6445080" y="349200"/>
              <a:ext cx="57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8058240" y="-12600"/>
            <a:ext cx="1054080" cy="1058760"/>
            <a:chOff x="8058240" y="-12600"/>
            <a:chExt cx="1054080" cy="1058760"/>
          </a:xfrm>
        </p:grpSpPr>
        <p:pic>
          <p:nvPicPr>
            <p:cNvPr id="636" name="" descr=""/>
            <p:cNvPicPr/>
            <p:nvPr/>
          </p:nvPicPr>
          <p:blipFill>
            <a:blip r:embed="rId24"/>
            <a:stretch/>
          </p:blipFill>
          <p:spPr>
            <a:xfrm>
              <a:off x="805824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>
              <a:off x="8228160" y="157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5394240" y="6308640"/>
            <a:ext cx="1548000" cy="560520"/>
            <a:chOff x="5394240" y="6308640"/>
            <a:chExt cx="1548000" cy="560520"/>
          </a:xfrm>
        </p:grpSpPr>
        <p:pic>
          <p:nvPicPr>
            <p:cNvPr id="639" name="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4800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5410080" y="6324480"/>
              <a:ext cx="1522440" cy="5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2992320" y="-12600"/>
            <a:ext cx="1054080" cy="1058760"/>
            <a:chOff x="2992320" y="-12600"/>
            <a:chExt cx="1054080" cy="1058760"/>
          </a:xfrm>
        </p:grpSpPr>
        <p:pic>
          <p:nvPicPr>
            <p:cNvPr id="642" name="" descr=""/>
            <p:cNvPicPr/>
            <p:nvPr/>
          </p:nvPicPr>
          <p:blipFill>
            <a:blip r:embed="rId26"/>
            <a:stretch/>
          </p:blipFill>
          <p:spPr>
            <a:xfrm>
              <a:off x="299232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3162240" y="157320"/>
              <a:ext cx="72396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44" name="" descr=""/>
          <p:cNvPicPr/>
          <p:nvPr/>
        </p:nvPicPr>
        <p:blipFill>
          <a:blip r:embed="rId27"/>
          <a:stretch/>
        </p:blipFill>
        <p:spPr>
          <a:xfrm>
            <a:off x="-6480" y="1298520"/>
            <a:ext cx="9156960" cy="54000"/>
          </a:xfrm>
          <a:prstGeom prst="rect">
            <a:avLst/>
          </a:prstGeom>
          <a:ln w="0">
            <a:noFill/>
          </a:ln>
        </p:spPr>
      </p:pic>
      <p:sp>
        <p:nvSpPr>
          <p:cNvPr id="64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dt" idx="11"/>
          </p:nvPr>
        </p:nvSpPr>
        <p:spPr>
          <a:xfrm>
            <a:off x="5790960" y="6357960"/>
            <a:ext cx="29732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9e5"/>
                </a:solidFill>
                <a:latin typeface="Constanti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133720" y="6357960"/>
            <a:ext cx="3581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sldNum" idx="12"/>
          </p:nvPr>
        </p:nvSpPr>
        <p:spPr>
          <a:xfrm>
            <a:off x="155160" y="6314760"/>
            <a:ext cx="1187640" cy="45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800" spc="-1" strike="noStrike">
                <a:solidFill>
                  <a:srgbClr val="fff9e5"/>
                </a:solidFill>
                <a:latin typeface="Constanti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FD5871D3-D3F7-403E-AB00-23F551CA90F1}" type="slidenum">
              <a:rPr b="0" lang="en-US" sz="2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8"/>
    <p:sldLayoutId id="2147483715" r:id="rId29"/>
    <p:sldLayoutId id="2147483716" r:id="rId30"/>
    <p:sldLayoutId id="2147483717" r:id="rId31"/>
    <p:sldLayoutId id="2147483718" r:id="rId32"/>
    <p:sldLayoutId id="2147483719" r:id="rId33"/>
    <p:sldLayoutId id="2147483720" r:id="rId34"/>
    <p:sldLayoutId id="2147483721" r:id="rId35"/>
    <p:sldLayoutId id="2147483722" r:id="rId36"/>
    <p:sldLayoutId id="2147483723" r:id="rId37"/>
    <p:sldLayoutId id="2147483724" r:id="rId38"/>
    <p:sldLayoutId id="2147483725" r:id="rId39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5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6" name=""/>
          <p:cNvGrpSpPr/>
          <p:nvPr/>
        </p:nvGrpSpPr>
        <p:grpSpPr>
          <a:xfrm>
            <a:off x="-19080" y="-19080"/>
            <a:ext cx="2621160" cy="6888240"/>
            <a:chOff x="-19080" y="-19080"/>
            <a:chExt cx="2621160" cy="6888240"/>
          </a:xfrm>
        </p:grpSpPr>
        <p:pic>
          <p:nvPicPr>
            <p:cNvPr id="687" name="" descr=""/>
            <p:cNvPicPr/>
            <p:nvPr/>
          </p:nvPicPr>
          <p:blipFill>
            <a:blip r:embed="rId2"/>
            <a:stretch/>
          </p:blipFill>
          <p:spPr>
            <a:xfrm>
              <a:off x="-19080" y="-19080"/>
              <a:ext cx="2621160" cy="688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0" y="0"/>
              <a:ext cx="258912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1547640" y="4316400"/>
            <a:ext cx="1054440" cy="1058760"/>
            <a:chOff x="1547640" y="4316400"/>
            <a:chExt cx="1054440" cy="1058760"/>
          </a:xfrm>
        </p:grpSpPr>
        <p:pic>
          <p:nvPicPr>
            <p:cNvPr id="690" name="" descr=""/>
            <p:cNvPicPr/>
            <p:nvPr/>
          </p:nvPicPr>
          <p:blipFill>
            <a:blip r:embed="rId3"/>
            <a:stretch/>
          </p:blipFill>
          <p:spPr>
            <a:xfrm>
              <a:off x="1547640" y="4316400"/>
              <a:ext cx="10544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"/>
            <p:cNvSpPr/>
            <p:nvPr/>
          </p:nvSpPr>
          <p:spPr>
            <a:xfrm>
              <a:off x="1714680" y="4487760"/>
              <a:ext cx="72360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-19080" y="360360"/>
            <a:ext cx="2163960" cy="2417760"/>
            <a:chOff x="-19080" y="360360"/>
            <a:chExt cx="2163960" cy="2417760"/>
          </a:xfrm>
        </p:grpSpPr>
        <p:pic>
          <p:nvPicPr>
            <p:cNvPr id="693" name="" descr=""/>
            <p:cNvPicPr/>
            <p:nvPr/>
          </p:nvPicPr>
          <p:blipFill>
            <a:blip r:embed="rId4"/>
            <a:stretch/>
          </p:blipFill>
          <p:spPr>
            <a:xfrm>
              <a:off x="-19080" y="360360"/>
              <a:ext cx="2163960" cy="24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4" name=""/>
            <p:cNvSpPr/>
            <p:nvPr/>
          </p:nvSpPr>
          <p:spPr>
            <a:xfrm>
              <a:off x="0" y="380880"/>
              <a:ext cx="2131920" cy="238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1427040" y="-19080"/>
            <a:ext cx="1204920" cy="663480"/>
            <a:chOff x="1427040" y="-19080"/>
            <a:chExt cx="1204920" cy="663480"/>
          </a:xfrm>
        </p:grpSpPr>
        <p:pic>
          <p:nvPicPr>
            <p:cNvPr id="696" name="" descr=""/>
            <p:cNvPicPr/>
            <p:nvPr/>
          </p:nvPicPr>
          <p:blipFill>
            <a:blip r:embed="rId5"/>
            <a:stretch/>
          </p:blipFill>
          <p:spPr>
            <a:xfrm>
              <a:off x="1427040" y="-19080"/>
              <a:ext cx="120492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"/>
            <p:cNvSpPr/>
            <p:nvPr/>
          </p:nvSpPr>
          <p:spPr>
            <a:xfrm>
              <a:off x="1447920" y="0"/>
              <a:ext cx="1172880" cy="63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42840" y="-19080"/>
            <a:ext cx="2333520" cy="2406600"/>
            <a:chOff x="42840" y="-19080"/>
            <a:chExt cx="2333520" cy="2406600"/>
          </a:xfrm>
        </p:grpSpPr>
        <p:pic>
          <p:nvPicPr>
            <p:cNvPr id="699" name="" descr=""/>
            <p:cNvPicPr/>
            <p:nvPr/>
          </p:nvPicPr>
          <p:blipFill>
            <a:blip r:embed="rId6"/>
            <a:stretch/>
          </p:blipFill>
          <p:spPr>
            <a:xfrm>
              <a:off x="42840" y="-19080"/>
              <a:ext cx="2333520" cy="240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396720" y="347760"/>
              <a:ext cx="1627200" cy="16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-19080" y="3260880"/>
            <a:ext cx="919080" cy="912600"/>
            <a:chOff x="-19080" y="3260880"/>
            <a:chExt cx="919080" cy="912600"/>
          </a:xfrm>
        </p:grpSpPr>
        <p:pic>
          <p:nvPicPr>
            <p:cNvPr id="702" name="" descr=""/>
            <p:cNvPicPr/>
            <p:nvPr/>
          </p:nvPicPr>
          <p:blipFill>
            <a:blip r:embed="rId7"/>
            <a:stretch/>
          </p:blipFill>
          <p:spPr>
            <a:xfrm>
              <a:off x="-19080" y="3260880"/>
              <a:ext cx="919080" cy="9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>
              <a:off x="130320" y="3406680"/>
              <a:ext cx="62856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774720" y="1700280"/>
            <a:ext cx="1430280" cy="1438200"/>
            <a:chOff x="774720" y="1700280"/>
            <a:chExt cx="1430280" cy="1438200"/>
          </a:xfrm>
        </p:grpSpPr>
        <p:pic>
          <p:nvPicPr>
            <p:cNvPr id="705" name="" descr=""/>
            <p:cNvPicPr/>
            <p:nvPr/>
          </p:nvPicPr>
          <p:blipFill>
            <a:blip r:embed="rId8"/>
            <a:stretch/>
          </p:blipFill>
          <p:spPr>
            <a:xfrm>
              <a:off x="774720" y="1700280"/>
              <a:ext cx="143028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6" name=""/>
            <p:cNvSpPr/>
            <p:nvPr/>
          </p:nvSpPr>
          <p:spPr>
            <a:xfrm>
              <a:off x="998640" y="1927080"/>
              <a:ext cx="9903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590400" y="4022640"/>
            <a:ext cx="1584360" cy="1584360"/>
            <a:chOff x="590400" y="4022640"/>
            <a:chExt cx="1584360" cy="1584360"/>
          </a:xfrm>
        </p:grpSpPr>
        <p:pic>
          <p:nvPicPr>
            <p:cNvPr id="708" name="" descr=""/>
            <p:cNvPicPr/>
            <p:nvPr/>
          </p:nvPicPr>
          <p:blipFill>
            <a:blip r:embed="rId9"/>
            <a:stretch/>
          </p:blipFill>
          <p:spPr>
            <a:xfrm>
              <a:off x="590400" y="4022640"/>
              <a:ext cx="15843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"/>
            <p:cNvSpPr/>
            <p:nvPr/>
          </p:nvSpPr>
          <p:spPr>
            <a:xfrm>
              <a:off x="836640" y="4265640"/>
              <a:ext cx="109836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133200" y="2346480"/>
            <a:ext cx="487440" cy="487080"/>
            <a:chOff x="133200" y="2346480"/>
            <a:chExt cx="487440" cy="487080"/>
          </a:xfrm>
        </p:grpSpPr>
        <p:pic>
          <p:nvPicPr>
            <p:cNvPr id="711" name="" descr=""/>
            <p:cNvPicPr/>
            <p:nvPr/>
          </p:nvPicPr>
          <p:blipFill>
            <a:blip r:embed="rId10"/>
            <a:stretch/>
          </p:blipFill>
          <p:spPr>
            <a:xfrm>
              <a:off x="133200" y="2346480"/>
              <a:ext cx="487440" cy="48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" name=""/>
            <p:cNvSpPr/>
            <p:nvPr/>
          </p:nvSpPr>
          <p:spPr>
            <a:xfrm>
              <a:off x="219240" y="2428920"/>
              <a:ext cx="3222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1731960" y="365040"/>
            <a:ext cx="485640" cy="487440"/>
            <a:chOff x="1731960" y="365040"/>
            <a:chExt cx="485640" cy="487440"/>
          </a:xfrm>
        </p:grpSpPr>
        <p:pic>
          <p:nvPicPr>
            <p:cNvPr id="714" name="" descr=""/>
            <p:cNvPicPr/>
            <p:nvPr/>
          </p:nvPicPr>
          <p:blipFill>
            <a:blip r:embed="rId11"/>
            <a:stretch/>
          </p:blipFill>
          <p:spPr>
            <a:xfrm>
              <a:off x="1731960" y="365040"/>
              <a:ext cx="48564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" name=""/>
            <p:cNvSpPr/>
            <p:nvPr/>
          </p:nvSpPr>
          <p:spPr>
            <a:xfrm>
              <a:off x="1819440" y="447840"/>
              <a:ext cx="3222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560520" y="2498760"/>
            <a:ext cx="2041560" cy="2041560"/>
            <a:chOff x="560520" y="2498760"/>
            <a:chExt cx="2041560" cy="2041560"/>
          </a:xfrm>
        </p:grpSpPr>
        <p:pic>
          <p:nvPicPr>
            <p:cNvPr id="717" name="" descr=""/>
            <p:cNvPicPr/>
            <p:nvPr/>
          </p:nvPicPr>
          <p:blipFill>
            <a:blip r:embed="rId12"/>
            <a:stretch/>
          </p:blipFill>
          <p:spPr>
            <a:xfrm>
              <a:off x="560520" y="2498760"/>
              <a:ext cx="2041560" cy="20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"/>
            <p:cNvSpPr/>
            <p:nvPr/>
          </p:nvSpPr>
          <p:spPr>
            <a:xfrm>
              <a:off x="873000" y="2809800"/>
              <a:ext cx="1420920" cy="14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-19080" y="5699160"/>
            <a:ext cx="1627200" cy="1170000"/>
            <a:chOff x="-19080" y="5699160"/>
            <a:chExt cx="1627200" cy="1170000"/>
          </a:xfrm>
        </p:grpSpPr>
        <p:pic>
          <p:nvPicPr>
            <p:cNvPr id="720" name="" descr=""/>
            <p:cNvPicPr/>
            <p:nvPr/>
          </p:nvPicPr>
          <p:blipFill>
            <a:blip r:embed="rId13"/>
            <a:stretch/>
          </p:blipFill>
          <p:spPr>
            <a:xfrm>
              <a:off x="-19080" y="5699160"/>
              <a:ext cx="16272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"/>
            <p:cNvSpPr/>
            <p:nvPr/>
          </p:nvSpPr>
          <p:spPr>
            <a:xfrm>
              <a:off x="0" y="5715000"/>
              <a:ext cx="1598760" cy="11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1305000" y="5857920"/>
            <a:ext cx="760320" cy="760320"/>
            <a:chOff x="1305000" y="5857920"/>
            <a:chExt cx="760320" cy="760320"/>
          </a:xfrm>
        </p:grpSpPr>
        <p:pic>
          <p:nvPicPr>
            <p:cNvPr id="723" name="" descr=""/>
            <p:cNvPicPr/>
            <p:nvPr/>
          </p:nvPicPr>
          <p:blipFill>
            <a:blip r:embed="rId14"/>
            <a:stretch/>
          </p:blipFill>
          <p:spPr>
            <a:xfrm>
              <a:off x="1305000" y="5857920"/>
              <a:ext cx="760320" cy="76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"/>
            <p:cNvSpPr/>
            <p:nvPr/>
          </p:nvSpPr>
          <p:spPr>
            <a:xfrm>
              <a:off x="1430280" y="5981760"/>
              <a:ext cx="51588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12600" y="5194440"/>
            <a:ext cx="1675080" cy="1674720"/>
            <a:chOff x="12600" y="5194440"/>
            <a:chExt cx="1675080" cy="1674720"/>
          </a:xfrm>
        </p:grpSpPr>
        <p:pic>
          <p:nvPicPr>
            <p:cNvPr id="726" name="" descr=""/>
            <p:cNvPicPr/>
            <p:nvPr/>
          </p:nvPicPr>
          <p:blipFill>
            <a:blip r:embed="rId15"/>
            <a:stretch/>
          </p:blipFill>
          <p:spPr>
            <a:xfrm>
              <a:off x="12600" y="5194440"/>
              <a:ext cx="1675080" cy="16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7" name=""/>
            <p:cNvSpPr/>
            <p:nvPr/>
          </p:nvSpPr>
          <p:spPr>
            <a:xfrm>
              <a:off x="271440" y="5452920"/>
              <a:ext cx="1162080" cy="11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8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 type="dt" idx="13"/>
          </p:nvPr>
        </p:nvSpPr>
        <p:spPr>
          <a:xfrm>
            <a:off x="5790960" y="6357960"/>
            <a:ext cx="29732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9e5"/>
                </a:solidFill>
                <a:latin typeface="Constanti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286000" y="6357960"/>
            <a:ext cx="34290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 type="sldNum" idx="14"/>
          </p:nvPr>
        </p:nvSpPr>
        <p:spPr>
          <a:xfrm>
            <a:off x="155160" y="6318000"/>
            <a:ext cx="1187640" cy="45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997D631F-E44C-4892-BDF0-DC5FD97D795F}" type="slidenum"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6"/>
    <p:sldLayoutId id="2147483728" r:id="rId17"/>
    <p:sldLayoutId id="2147483729" r:id="rId18"/>
    <p:sldLayoutId id="2147483730" r:id="rId19"/>
    <p:sldLayoutId id="2147483731" r:id="rId20"/>
    <p:sldLayoutId id="2147483732" r:id="rId21"/>
    <p:sldLayoutId id="2147483733" r:id="rId22"/>
    <p:sldLayoutId id="2147483734" r:id="rId23"/>
    <p:sldLayoutId id="2147483735" r:id="rId24"/>
    <p:sldLayoutId id="2147483736" r:id="rId25"/>
    <p:sldLayoutId id="2147483737" r:id="rId26"/>
    <p:sldLayoutId id="2147483738" r:id="rId2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5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9" name=""/>
          <p:cNvGrpSpPr/>
          <p:nvPr/>
        </p:nvGrpSpPr>
        <p:grpSpPr>
          <a:xfrm>
            <a:off x="-19080" y="-19080"/>
            <a:ext cx="2621160" cy="6888240"/>
            <a:chOff x="-19080" y="-19080"/>
            <a:chExt cx="2621160" cy="6888240"/>
          </a:xfrm>
        </p:grpSpPr>
        <p:pic>
          <p:nvPicPr>
            <p:cNvPr id="770" name="" descr=""/>
            <p:cNvPicPr/>
            <p:nvPr/>
          </p:nvPicPr>
          <p:blipFill>
            <a:blip r:embed="rId2"/>
            <a:stretch/>
          </p:blipFill>
          <p:spPr>
            <a:xfrm>
              <a:off x="-19080" y="-19080"/>
              <a:ext cx="2621160" cy="688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1" name=""/>
            <p:cNvSpPr/>
            <p:nvPr/>
          </p:nvSpPr>
          <p:spPr>
            <a:xfrm>
              <a:off x="0" y="0"/>
              <a:ext cx="258912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1547640" y="4316400"/>
            <a:ext cx="1054440" cy="1058760"/>
            <a:chOff x="1547640" y="4316400"/>
            <a:chExt cx="1054440" cy="1058760"/>
          </a:xfrm>
        </p:grpSpPr>
        <p:pic>
          <p:nvPicPr>
            <p:cNvPr id="773" name="" descr=""/>
            <p:cNvPicPr/>
            <p:nvPr/>
          </p:nvPicPr>
          <p:blipFill>
            <a:blip r:embed="rId3"/>
            <a:stretch/>
          </p:blipFill>
          <p:spPr>
            <a:xfrm>
              <a:off x="1547640" y="4316400"/>
              <a:ext cx="10544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"/>
            <p:cNvSpPr/>
            <p:nvPr/>
          </p:nvSpPr>
          <p:spPr>
            <a:xfrm>
              <a:off x="1714680" y="4487760"/>
              <a:ext cx="72360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-19080" y="360360"/>
            <a:ext cx="2163960" cy="2417760"/>
            <a:chOff x="-19080" y="360360"/>
            <a:chExt cx="2163960" cy="2417760"/>
          </a:xfrm>
        </p:grpSpPr>
        <p:pic>
          <p:nvPicPr>
            <p:cNvPr id="776" name="" descr=""/>
            <p:cNvPicPr/>
            <p:nvPr/>
          </p:nvPicPr>
          <p:blipFill>
            <a:blip r:embed="rId4"/>
            <a:stretch/>
          </p:blipFill>
          <p:spPr>
            <a:xfrm>
              <a:off x="-19080" y="360360"/>
              <a:ext cx="2163960" cy="24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"/>
            <p:cNvSpPr/>
            <p:nvPr/>
          </p:nvSpPr>
          <p:spPr>
            <a:xfrm>
              <a:off x="0" y="380880"/>
              <a:ext cx="2131920" cy="238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1427040" y="-19080"/>
            <a:ext cx="1204920" cy="663480"/>
            <a:chOff x="1427040" y="-19080"/>
            <a:chExt cx="1204920" cy="663480"/>
          </a:xfrm>
        </p:grpSpPr>
        <p:pic>
          <p:nvPicPr>
            <p:cNvPr id="779" name="" descr=""/>
            <p:cNvPicPr/>
            <p:nvPr/>
          </p:nvPicPr>
          <p:blipFill>
            <a:blip r:embed="rId5"/>
            <a:stretch/>
          </p:blipFill>
          <p:spPr>
            <a:xfrm>
              <a:off x="1427040" y="-19080"/>
              <a:ext cx="120492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"/>
            <p:cNvSpPr/>
            <p:nvPr/>
          </p:nvSpPr>
          <p:spPr>
            <a:xfrm>
              <a:off x="1447920" y="0"/>
              <a:ext cx="1172880" cy="63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42840" y="-19080"/>
            <a:ext cx="2333520" cy="2406600"/>
            <a:chOff x="42840" y="-19080"/>
            <a:chExt cx="2333520" cy="2406600"/>
          </a:xfrm>
        </p:grpSpPr>
        <p:pic>
          <p:nvPicPr>
            <p:cNvPr id="782" name="" descr=""/>
            <p:cNvPicPr/>
            <p:nvPr/>
          </p:nvPicPr>
          <p:blipFill>
            <a:blip r:embed="rId6"/>
            <a:stretch/>
          </p:blipFill>
          <p:spPr>
            <a:xfrm>
              <a:off x="42840" y="-19080"/>
              <a:ext cx="2333520" cy="240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3" name=""/>
            <p:cNvSpPr/>
            <p:nvPr/>
          </p:nvSpPr>
          <p:spPr>
            <a:xfrm>
              <a:off x="396720" y="347760"/>
              <a:ext cx="1627200" cy="16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-19080" y="3260880"/>
            <a:ext cx="919080" cy="912600"/>
            <a:chOff x="-19080" y="3260880"/>
            <a:chExt cx="919080" cy="912600"/>
          </a:xfrm>
        </p:grpSpPr>
        <p:pic>
          <p:nvPicPr>
            <p:cNvPr id="785" name="" descr=""/>
            <p:cNvPicPr/>
            <p:nvPr/>
          </p:nvPicPr>
          <p:blipFill>
            <a:blip r:embed="rId7"/>
            <a:stretch/>
          </p:blipFill>
          <p:spPr>
            <a:xfrm>
              <a:off x="-19080" y="3260880"/>
              <a:ext cx="919080" cy="9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"/>
            <p:cNvSpPr/>
            <p:nvPr/>
          </p:nvSpPr>
          <p:spPr>
            <a:xfrm>
              <a:off x="130320" y="3406680"/>
              <a:ext cx="62856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774720" y="1700280"/>
            <a:ext cx="1430280" cy="1438200"/>
            <a:chOff x="774720" y="1700280"/>
            <a:chExt cx="1430280" cy="1438200"/>
          </a:xfrm>
        </p:grpSpPr>
        <p:pic>
          <p:nvPicPr>
            <p:cNvPr id="788" name="" descr=""/>
            <p:cNvPicPr/>
            <p:nvPr/>
          </p:nvPicPr>
          <p:blipFill>
            <a:blip r:embed="rId8"/>
            <a:stretch/>
          </p:blipFill>
          <p:spPr>
            <a:xfrm>
              <a:off x="774720" y="1700280"/>
              <a:ext cx="143028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"/>
            <p:cNvSpPr/>
            <p:nvPr/>
          </p:nvSpPr>
          <p:spPr>
            <a:xfrm>
              <a:off x="998640" y="1927080"/>
              <a:ext cx="9903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590400" y="4022640"/>
            <a:ext cx="1584360" cy="1584360"/>
            <a:chOff x="590400" y="4022640"/>
            <a:chExt cx="1584360" cy="1584360"/>
          </a:xfrm>
        </p:grpSpPr>
        <p:pic>
          <p:nvPicPr>
            <p:cNvPr id="791" name="" descr=""/>
            <p:cNvPicPr/>
            <p:nvPr/>
          </p:nvPicPr>
          <p:blipFill>
            <a:blip r:embed="rId9"/>
            <a:stretch/>
          </p:blipFill>
          <p:spPr>
            <a:xfrm>
              <a:off x="590400" y="4022640"/>
              <a:ext cx="15843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"/>
            <p:cNvSpPr/>
            <p:nvPr/>
          </p:nvSpPr>
          <p:spPr>
            <a:xfrm>
              <a:off x="836640" y="4265640"/>
              <a:ext cx="109836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1731960" y="365040"/>
            <a:ext cx="485640" cy="487440"/>
            <a:chOff x="1731960" y="365040"/>
            <a:chExt cx="485640" cy="487440"/>
          </a:xfrm>
        </p:grpSpPr>
        <p:pic>
          <p:nvPicPr>
            <p:cNvPr id="794" name="" descr=""/>
            <p:cNvPicPr/>
            <p:nvPr/>
          </p:nvPicPr>
          <p:blipFill>
            <a:blip r:embed="rId10"/>
            <a:stretch/>
          </p:blipFill>
          <p:spPr>
            <a:xfrm>
              <a:off x="1731960" y="365040"/>
              <a:ext cx="48564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"/>
            <p:cNvSpPr/>
            <p:nvPr/>
          </p:nvSpPr>
          <p:spPr>
            <a:xfrm>
              <a:off x="1819440" y="447840"/>
              <a:ext cx="3222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560520" y="2498760"/>
            <a:ext cx="2041560" cy="2041560"/>
            <a:chOff x="560520" y="2498760"/>
            <a:chExt cx="2041560" cy="2041560"/>
          </a:xfrm>
        </p:grpSpPr>
        <p:pic>
          <p:nvPicPr>
            <p:cNvPr id="797" name="" descr=""/>
            <p:cNvPicPr/>
            <p:nvPr/>
          </p:nvPicPr>
          <p:blipFill>
            <a:blip r:embed="rId11"/>
            <a:stretch/>
          </p:blipFill>
          <p:spPr>
            <a:xfrm>
              <a:off x="560520" y="2498760"/>
              <a:ext cx="2041560" cy="20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"/>
            <p:cNvSpPr/>
            <p:nvPr/>
          </p:nvSpPr>
          <p:spPr>
            <a:xfrm>
              <a:off x="873000" y="2809800"/>
              <a:ext cx="1420920" cy="14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-19080" y="5699160"/>
            <a:ext cx="1627200" cy="1170000"/>
            <a:chOff x="-19080" y="5699160"/>
            <a:chExt cx="1627200" cy="1170000"/>
          </a:xfrm>
        </p:grpSpPr>
        <p:pic>
          <p:nvPicPr>
            <p:cNvPr id="800" name="" descr=""/>
            <p:cNvPicPr/>
            <p:nvPr/>
          </p:nvPicPr>
          <p:blipFill>
            <a:blip r:embed="rId12"/>
            <a:stretch/>
          </p:blipFill>
          <p:spPr>
            <a:xfrm>
              <a:off x="-19080" y="5699160"/>
              <a:ext cx="16272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1" name=""/>
            <p:cNvSpPr/>
            <p:nvPr/>
          </p:nvSpPr>
          <p:spPr>
            <a:xfrm>
              <a:off x="0" y="5715000"/>
              <a:ext cx="1598760" cy="11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1305000" y="5857920"/>
            <a:ext cx="760320" cy="760320"/>
            <a:chOff x="1305000" y="5857920"/>
            <a:chExt cx="760320" cy="760320"/>
          </a:xfrm>
        </p:grpSpPr>
        <p:pic>
          <p:nvPicPr>
            <p:cNvPr id="803" name="" descr=""/>
            <p:cNvPicPr/>
            <p:nvPr/>
          </p:nvPicPr>
          <p:blipFill>
            <a:blip r:embed="rId13"/>
            <a:stretch/>
          </p:blipFill>
          <p:spPr>
            <a:xfrm>
              <a:off x="1305000" y="5857920"/>
              <a:ext cx="760320" cy="76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4" name=""/>
            <p:cNvSpPr/>
            <p:nvPr/>
          </p:nvSpPr>
          <p:spPr>
            <a:xfrm>
              <a:off x="1430280" y="5981760"/>
              <a:ext cx="51588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12600" y="5194440"/>
            <a:ext cx="1675080" cy="1674720"/>
            <a:chOff x="12600" y="5194440"/>
            <a:chExt cx="1675080" cy="1674720"/>
          </a:xfrm>
        </p:grpSpPr>
        <p:pic>
          <p:nvPicPr>
            <p:cNvPr id="806" name="" descr=""/>
            <p:cNvPicPr/>
            <p:nvPr/>
          </p:nvPicPr>
          <p:blipFill>
            <a:blip r:embed="rId14"/>
            <a:stretch/>
          </p:blipFill>
          <p:spPr>
            <a:xfrm>
              <a:off x="12600" y="5194440"/>
              <a:ext cx="1675080" cy="16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>
              <a:off x="271440" y="5452920"/>
              <a:ext cx="1162080" cy="11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133200" y="2346480"/>
            <a:ext cx="487440" cy="487080"/>
            <a:chOff x="133200" y="2346480"/>
            <a:chExt cx="487440" cy="487080"/>
          </a:xfrm>
        </p:grpSpPr>
        <p:pic>
          <p:nvPicPr>
            <p:cNvPr id="809" name="" descr=""/>
            <p:cNvPicPr/>
            <p:nvPr/>
          </p:nvPicPr>
          <p:blipFill>
            <a:blip r:embed="rId15"/>
            <a:stretch/>
          </p:blipFill>
          <p:spPr>
            <a:xfrm>
              <a:off x="133200" y="2346480"/>
              <a:ext cx="487440" cy="48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0" name=""/>
            <p:cNvSpPr/>
            <p:nvPr/>
          </p:nvSpPr>
          <p:spPr>
            <a:xfrm>
              <a:off x="219240" y="2428920"/>
              <a:ext cx="3222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 type="dt" idx="15"/>
          </p:nvPr>
        </p:nvSpPr>
        <p:spPr>
          <a:xfrm>
            <a:off x="5790960" y="6357960"/>
            <a:ext cx="29732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9e5"/>
                </a:solidFill>
                <a:latin typeface="Constanti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133720" y="6357960"/>
            <a:ext cx="3581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 type="sldNum" idx="16"/>
          </p:nvPr>
        </p:nvSpPr>
        <p:spPr>
          <a:xfrm>
            <a:off x="155160" y="6318000"/>
            <a:ext cx="1187640" cy="45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A0D396A9-53AA-4080-B5D9-298148104C13}" type="slidenum"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6"/>
    <p:sldLayoutId id="2147483741" r:id="rId17"/>
    <p:sldLayoutId id="2147483742" r:id="rId18"/>
    <p:sldLayoutId id="2147483743" r:id="rId19"/>
    <p:sldLayoutId id="2147483744" r:id="rId20"/>
    <p:sldLayoutId id="2147483745" r:id="rId21"/>
    <p:sldLayoutId id="2147483746" r:id="rId22"/>
    <p:sldLayoutId id="2147483747" r:id="rId23"/>
    <p:sldLayoutId id="2147483748" r:id="rId24"/>
    <p:sldLayoutId id="2147483749" r:id="rId25"/>
    <p:sldLayoutId id="2147483750" r:id="rId26"/>
    <p:sldLayoutId id="2147483751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9.wmf"/><Relationship Id="rId3" Type="http://schemas.openxmlformats.org/officeDocument/2006/relationships/image" Target="../media/image60.wmf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1.wmf"/><Relationship Id="rId3" Type="http://schemas.openxmlformats.org/officeDocument/2006/relationships/image" Target="../media/image62.wmf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3.wmf"/><Relationship Id="rId3" Type="http://schemas.openxmlformats.org/officeDocument/2006/relationships/image" Target="../media/image64.wmf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Andrew Jacks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4" name="" descr=""/>
          <p:cNvPicPr/>
          <p:nvPr/>
        </p:nvPicPr>
        <p:blipFill>
          <a:blip r:embed="rId2"/>
          <a:stretch/>
        </p:blipFill>
        <p:spPr>
          <a:xfrm>
            <a:off x="1143000" y="1828800"/>
            <a:ext cx="68580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Nullification Crisi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Tariff of 1828 – Tariff of Abominations – on impor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South argues it’s unconstitutional – enriches North at the expense of the So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Nullification – (like VA &amp; KY Resolutio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SC threatens to secede – Calhoun resign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Force Act – Congress gives Jackson right to collect tariff by force if necessar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HENRY CLAY – GREAT COMPROMISER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1" name="" descr=""/>
          <p:cNvPicPr/>
          <p:nvPr/>
        </p:nvPicPr>
        <p:blipFill>
          <a:blip r:embed="rId2"/>
          <a:stretch/>
        </p:blipFill>
        <p:spPr>
          <a:xfrm>
            <a:off x="6031080" y="4495680"/>
            <a:ext cx="2917800" cy="213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Bank Wa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Nicholas Biddle (banker from Philadelphia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Efforts to renew charter of Second Bank of U.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Renew early &amp; Jackson vetoes – tool of the privileged el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Backfires on Biddle &amp; Bank suppor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Jackson withdraws federal money and puts it in state banks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“</a:t>
            </a: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pet banks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4" name="" descr=""/>
          <p:cNvPicPr/>
          <p:nvPr/>
        </p:nvPicPr>
        <p:blipFill>
          <a:blip r:embed="rId2"/>
          <a:stretch/>
        </p:blipFill>
        <p:spPr>
          <a:xfrm>
            <a:off x="6465960" y="4637160"/>
            <a:ext cx="2220840" cy="22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5" name="" descr=""/>
          <p:cNvPicPr/>
          <p:nvPr/>
        </p:nvPicPr>
        <p:blipFill>
          <a:blip r:embed="rId2"/>
          <a:stretch/>
        </p:blipFill>
        <p:spPr>
          <a:xfrm>
            <a:off x="522360" y="574560"/>
            <a:ext cx="8164440" cy="582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Election of 1836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Whigs – former Federalists, evangelical reform churches, favor government intervention in economic and social affairs, commercial agriculture and industrial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Democrat – Martin Van Buren – w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Small farmer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Urban workers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Oppose rapid industrialization, factory work and commercial agricultur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8" name="" descr=""/>
          <p:cNvPicPr/>
          <p:nvPr/>
        </p:nvPicPr>
        <p:blipFill>
          <a:blip r:embed="rId2"/>
          <a:stretch/>
        </p:blipFill>
        <p:spPr>
          <a:xfrm>
            <a:off x="7388280" y="2987640"/>
            <a:ext cx="1298520" cy="18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Transportation Revolu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Between 1800 and 18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Private investment - Turnpik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States provided funding for roads, canals, railro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National Road – only federally funded ro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Maryland to Illinoi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1" name="" descr=""/>
          <p:cNvPicPr/>
          <p:nvPr/>
        </p:nvPicPr>
        <p:blipFill>
          <a:blip r:embed="rId2"/>
          <a:stretch/>
        </p:blipFill>
        <p:spPr>
          <a:xfrm>
            <a:off x="5602320" y="4272120"/>
            <a:ext cx="3084480" cy="23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Indian Remov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57200" y="1523880"/>
            <a:ext cx="41799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Indian Removal Act – all Indians must move west of the Mississippi R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Cherokee resi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Cherokee v. Georgia, Worcester v. Georgi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Trail of T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4,000 of 18,000 die along the wa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4" name="" descr=""/>
          <p:cNvPicPr/>
          <p:nvPr/>
        </p:nvPicPr>
        <p:blipFill>
          <a:blip r:embed="rId2"/>
          <a:stretch/>
        </p:blipFill>
        <p:spPr>
          <a:xfrm>
            <a:off x="4629240" y="2035080"/>
            <a:ext cx="405756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Canals &amp; Steamboa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Erie Canal – connected Hudson River with the Great Lak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Farmers in the West were linked to the national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Facilitated movement West into Louisiana Terri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Steamboats allowed upstream tra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Robert Fulton – first in U.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7" name="" descr=""/>
          <p:cNvPicPr/>
          <p:nvPr/>
        </p:nvPicPr>
        <p:blipFill>
          <a:blip r:embed="rId2"/>
          <a:stretch/>
        </p:blipFill>
        <p:spPr>
          <a:xfrm>
            <a:off x="6329520" y="4917960"/>
            <a:ext cx="1817640" cy="117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Railroad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Made wealthy investors even more mon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B&amp;O Railroad – Baltimore &amp; Oh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Battle of gauge resolved by 1850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Standard gauge vs. narrow gaug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0" name="" descr=""/>
          <p:cNvPicPr/>
          <p:nvPr/>
        </p:nvPicPr>
        <p:blipFill>
          <a:blip r:embed="rId2"/>
          <a:stretch/>
        </p:blipFill>
        <p:spPr>
          <a:xfrm>
            <a:off x="5854680" y="3429000"/>
            <a:ext cx="3129120" cy="312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Commercial Agriculture in the Old Northwes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Farmers could now ship to previously unreachable mar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Farmers specialize – different regions grew different cr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However, farmers became dependent on distant markets and cred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Innov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John Deere – steel plow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Cyrus McCormick – mechanical reaper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2"/>
          <a:stretch/>
        </p:blipFill>
        <p:spPr>
          <a:xfrm>
            <a:off x="5865840" y="3819600"/>
            <a:ext cx="2157480" cy="1447560"/>
          </a:xfrm>
          <a:prstGeom prst="rect">
            <a:avLst/>
          </a:prstGeom>
          <a:ln w="0">
            <a:noFill/>
          </a:ln>
        </p:spPr>
      </p:pic>
      <p:pic>
        <p:nvPicPr>
          <p:cNvPr id="904" name="" descr=""/>
          <p:cNvPicPr/>
          <p:nvPr/>
        </p:nvPicPr>
        <p:blipFill>
          <a:blip r:embed="rId3"/>
          <a:stretch/>
        </p:blipFill>
        <p:spPr>
          <a:xfrm>
            <a:off x="6993000" y="5197320"/>
            <a:ext cx="2151000" cy="157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Effects of the Transportation Revolution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National pride &amp; identity – no longer contained in the E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Risk-taking mentality – spurs innovation and in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Greater mo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7" name="" descr=""/>
          <p:cNvPicPr/>
          <p:nvPr/>
        </p:nvPicPr>
        <p:blipFill>
          <a:blip r:embed="rId2"/>
          <a:stretch/>
        </p:blipFill>
        <p:spPr>
          <a:xfrm>
            <a:off x="5504040" y="3487680"/>
            <a:ext cx="1865160" cy="2608200"/>
          </a:xfrm>
          <a:prstGeom prst="rect">
            <a:avLst/>
          </a:prstGeom>
          <a:ln w="0">
            <a:noFill/>
          </a:ln>
        </p:spPr>
      </p:pic>
      <p:pic>
        <p:nvPicPr>
          <p:cNvPr id="908" name="" descr=""/>
          <p:cNvPicPr/>
          <p:nvPr/>
        </p:nvPicPr>
        <p:blipFill>
          <a:blip r:embed="rId3"/>
          <a:stretch/>
        </p:blipFill>
        <p:spPr>
          <a:xfrm>
            <a:off x="830160" y="4371840"/>
            <a:ext cx="1816200" cy="17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Expansion &amp; the Limits of Suffrag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Before 1800 only white, male, property owners could vote in most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Political power was concentrated in hands of a f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By 1820, most states dropped property qualif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By 1840, 90% of adult white males could vo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Women &amp; African-Americans still barred from voting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Most liberal voting policy in the world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7" name="" descr=""/>
          <p:cNvPicPr/>
          <p:nvPr/>
        </p:nvPicPr>
        <p:blipFill>
          <a:blip r:embed="rId2"/>
          <a:stretch/>
        </p:blipFill>
        <p:spPr>
          <a:xfrm>
            <a:off x="6688080" y="5119560"/>
            <a:ext cx="1773360" cy="14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Creating a National American Cultur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Steam powered pr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Telegraph – communications rev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2"/>
          <a:stretch/>
        </p:blipFill>
        <p:spPr>
          <a:xfrm>
            <a:off x="692280" y="3978360"/>
            <a:ext cx="2427120" cy="1785960"/>
          </a:xfrm>
          <a:prstGeom prst="rect">
            <a:avLst/>
          </a:prstGeom>
          <a:ln w="0">
            <a:noFill/>
          </a:ln>
        </p:spPr>
      </p:pic>
      <p:pic>
        <p:nvPicPr>
          <p:cNvPr id="912" name="" descr=""/>
          <p:cNvPicPr/>
          <p:nvPr/>
        </p:nvPicPr>
        <p:blipFill>
          <a:blip r:embed="rId3"/>
          <a:stretch/>
        </p:blipFill>
        <p:spPr>
          <a:xfrm>
            <a:off x="4572000" y="3059280"/>
            <a:ext cx="3422520" cy="34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Election of 1824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End of Era of Good Feel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Four candid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Andrew Jackson – gets most popular vot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John Quincy Adams – winner in House of Rep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Henry Clay – becomes Adams’ Secretary of Stat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William Crawford– not a factor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Corrupt Bargain?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0" name="" descr=""/>
          <p:cNvPicPr/>
          <p:nvPr/>
        </p:nvPicPr>
        <p:blipFill>
          <a:blip r:embed="rId2"/>
          <a:stretch/>
        </p:blipFill>
        <p:spPr>
          <a:xfrm>
            <a:off x="6230880" y="4518000"/>
            <a:ext cx="1808280" cy="157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The New Popular Democratic Cultur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New state organizations of political pa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Party loyalty was st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Mass campaig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Print media got information to more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Politics became part of everyday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Rise of sectional politic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Daniel Webster – New England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Henry Clay – Wes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John Calhoun - South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3" name="" descr=""/>
          <p:cNvPicPr/>
          <p:nvPr/>
        </p:nvPicPr>
        <p:blipFill>
          <a:blip r:embed="rId2"/>
          <a:stretch/>
        </p:blipFill>
        <p:spPr>
          <a:xfrm>
            <a:off x="6075360" y="4713120"/>
            <a:ext cx="2611440" cy="138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The Election of 1828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J.Q. Adams vs. Andrew Jack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Jackson wins easily – John Calhoun is V.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King Andrew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King Mob – Inauguration Part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Coalition of North, South and Wes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“</a:t>
            </a: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Common Man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6" name="" descr=""/>
          <p:cNvPicPr/>
          <p:nvPr/>
        </p:nvPicPr>
        <p:blipFill>
          <a:blip r:embed="rId2"/>
          <a:stretch/>
        </p:blipFill>
        <p:spPr>
          <a:xfrm>
            <a:off x="6796080" y="3741840"/>
            <a:ext cx="2233800" cy="311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Jackson Backgroun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Orphaned by age 14 – spotty 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Slashed by British soldier in Revolution when he refused to polish the soldier’s bo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Both brothers and his mother died in Revolution – mom was nursing sold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Country lawyer, merchant, planter – owned sla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Marriage controvers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13 duels – one man killed – let the other guy shoot first and Jackson was hit in the ribs but returned f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A Popular Figur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57200" y="1523880"/>
            <a:ext cx="4049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Indian Figh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Hero of the Battle of New Orle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Actions in Seminole War helped gain Flori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1" name="" descr=""/>
          <p:cNvPicPr/>
          <p:nvPr/>
        </p:nvPicPr>
        <p:blipFill>
          <a:blip r:embed="rId2"/>
          <a:stretch/>
        </p:blipFill>
        <p:spPr>
          <a:xfrm>
            <a:off x="5216400" y="1908000"/>
            <a:ext cx="3643560" cy="478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Jacksonian Democrac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457200" y="1523880"/>
            <a:ext cx="5016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For the “common ma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Spoils System – give government jobs to friends and loyal suppor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Peggy Eaton (w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ife of Sec. of War)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 and the “Petticoat Affair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4" name="" descr=""/>
          <p:cNvPicPr/>
          <p:nvPr/>
        </p:nvPicPr>
        <p:blipFill>
          <a:blip r:embed="rId2"/>
          <a:stretch/>
        </p:blipFill>
        <p:spPr>
          <a:xfrm>
            <a:off x="6421320" y="3930480"/>
            <a:ext cx="1714680" cy="23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A Strong Execu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Kitchen Cabinet – ignored Cabinet in favor of frie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Veto – more than all other presidents before him comb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7" name="" descr=""/>
          <p:cNvPicPr/>
          <p:nvPr/>
        </p:nvPicPr>
        <p:blipFill>
          <a:blip r:embed="rId2"/>
          <a:stretch/>
        </p:blipFill>
        <p:spPr>
          <a:xfrm>
            <a:off x="4905360" y="3284640"/>
            <a:ext cx="3259080" cy="3267000"/>
          </a:xfrm>
          <a:prstGeom prst="rect">
            <a:avLst/>
          </a:prstGeom>
          <a:ln w="0">
            <a:noFill/>
          </a:ln>
        </p:spPr>
      </p:pic>
      <p:pic>
        <p:nvPicPr>
          <p:cNvPr id="878" name="" descr=""/>
          <p:cNvPicPr/>
          <p:nvPr/>
        </p:nvPicPr>
        <p:blipFill>
          <a:blip r:embed="rId3"/>
          <a:stretch/>
        </p:blipFill>
        <p:spPr>
          <a:xfrm>
            <a:off x="1192320" y="3703680"/>
            <a:ext cx="2490840" cy="2482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16:55:24Z</dcterms:created>
  <dc:creator>Pamela</dc:creator>
  <dc:description>Abstract, circles and flower design for multi-use presentations.</dc:description>
  <cp:keywords>abstract yellow orange red circles flowers warm hot summer spring bright</cp:keywords>
  <dc:language>en-US</dc:language>
  <cp:lastModifiedBy>pcarter</cp:lastModifiedBy>
  <dcterms:modified xsi:type="dcterms:W3CDTF">2012-05-03T11:12:07Z</dcterms:modified>
  <cp:revision>32</cp:revision>
  <dc:subject>Abstract presentation design</dc:subject>
  <dc:title>Main title</dc:title>
</cp:coreProperties>
</file>